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56D8-80A4-4D66-AEC9-BF7546F4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31C6-AF9C-4352-872B-CCD6CE20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5AAE-6714-45A3-8DF5-B5B794BE5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861D-FB9F-450D-82B5-219B4FF92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44A6-796D-4B7F-B6B0-D5C9A5A5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D3B5-FA94-493A-846D-9DCA0F49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FC92-C67F-4459-8B8E-410116A7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C629-EFE3-40A5-B046-48C2DECA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ED00-AD8C-4273-ABD6-12FE616A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FBC1-5350-4B06-A297-EBEA1862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073F-5C5A-493E-AA46-5FF0C29C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A3D6-89C0-49E6-8CEF-C947CA88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362B-9C92-4DAD-B23F-E68FBFA00C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Comic Sans MS"/>
              </a:rPr>
              <a:t>The World Cup in my classroom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48000" y="3524400"/>
            <a:ext cx="24670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3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Fra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628640"/>
            <a:ext cx="2808360" cy="4464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2000" y="1628640"/>
            <a:ext cx="2663640" cy="446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76720" y="1628640"/>
            <a:ext cx="2735280" cy="446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Country fact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ntin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nguage(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urr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ich? Poor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33200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0" y="3524400"/>
            <a:ext cx="24670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95520" cy="3745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284720" y="1341360"/>
            <a:ext cx="2643120" cy="3672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116000" y="508464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£1 = ZAR 11.1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Team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r play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club do they play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re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do they play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h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sults (predictions &amp; odd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ch reports (past ten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gular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33200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348000" y="3524400"/>
            <a:ext cx="24670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2" dur="3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3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Comic Sans MS"/>
              </a:rPr>
              <a:t>Celebrate!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Fact f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re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many tea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many English speaking countr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many Spanish speaking countr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many French speaking countr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many German speaking countr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me the countries in theTarget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bel ma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Fl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3200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0" y="3524400"/>
            <a:ext cx="24670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58680"/>
            <a:ext cx="896472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Fra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799308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3200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0" y="3524400"/>
            <a:ext cx="24670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Fra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1628640"/>
            <a:ext cx="2735280" cy="446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628640"/>
            <a:ext cx="2808360" cy="446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2000" y="1628640"/>
            <a:ext cx="2663640" cy="446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08:08:43Z</dcterms:created>
  <dc:creator>dominic.mcgladdery</dc:creator>
  <dc:description/>
  <dc:language>en-US</dc:language>
  <cp:lastModifiedBy>Clare</cp:lastModifiedBy>
  <dcterms:modified xsi:type="dcterms:W3CDTF">2010-03-20T20:19:36Z</dcterms:modified>
  <cp:revision>13</cp:revision>
  <dc:subject/>
  <dc:title>The World Cup in my classroom</dc:title>
</cp:coreProperties>
</file>