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0EE-F1F6-4B08-B342-D0AE352D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C1C-AFC3-43E6-887E-F1E135E0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892-D8E7-43DE-A6FB-A2B50755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81A-93CF-42E9-BDCA-19FAAF49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181-E5D2-4F4C-87AB-A57A10C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921-6F91-4B14-80A6-A4DF79F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E88-0972-456F-A2F3-047A9D6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077-41F3-4708-9225-07D094F0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166-DB4C-4A91-802A-5A9B5AB7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E1F-17DE-4BEE-8CE5-36E11D1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9B0-00FE-4ECC-9DF6-444A35C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795-814F-4F66-B26F-9308518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EC1-86F1-470C-A3E9-EF6922A534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omic Sans MS"/>
              </a:rPr>
              <a:t>The World Cup in my classroo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628640"/>
            <a:ext cx="2808360" cy="446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1628640"/>
            <a:ext cx="2663640" cy="446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628640"/>
            <a:ext cx="273528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ountry fact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ti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nguag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ich? Po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95520" cy="374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2643120" cy="36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16000" y="5084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£1 = ZAR 11.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am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r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club do they play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they play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lts (predictions &amp; od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ch reports (past ten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gular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48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Celebrate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act 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te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Englis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panis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French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German speaking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the countries in theTarge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bel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l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8964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930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0" y="3524400"/>
            <a:ext cx="2467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628640"/>
            <a:ext cx="273528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628640"/>
            <a:ext cx="280836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1628640"/>
            <a:ext cx="2663640" cy="44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08:43Z</dcterms:created>
  <dc:creator>dominic.mcgladdery</dc:creator>
  <dc:description/>
  <dc:language>en-US</dc:language>
  <cp:lastModifiedBy>Clare</cp:lastModifiedBy>
  <dcterms:modified xsi:type="dcterms:W3CDTF">2010-03-20T20:19:36Z</dcterms:modified>
  <cp:revision>13</cp:revision>
  <dc:subject/>
  <dc:title>The World Cup in my classroom</dc:title>
</cp:coreProperties>
</file>