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CA44-B2EC-4470-BF29-C0E5EA962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43F7-9893-4C3B-9083-3E253D20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049C-D620-4C9A-B6FE-BFD88971B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0216-884E-454B-AC80-188EE84F7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89DB-4D6E-43F9-A4D0-3009FBA4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3D9D-33FB-41D4-B385-6B2921B0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FC1F-3592-414F-A9D2-26CE7226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2B0E-7110-4A70-A7FA-5ADC2C40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2D53-7647-4068-B681-C41D63A5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576E-68FC-4EF2-8029-6774571E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9753-3996-4939-A9EA-86E11B28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C5D9-0A95-4020-A0CE-4C98A4CA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C105-0A1F-49D1-9F68-9C582BC01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Carte des fuseaux horaires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114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9640" y="56610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Les fuseaux hor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21:08:33Z</dcterms:created>
  <dc:creator>CSeccombe</dc:creator>
  <dc:description/>
  <dc:language>en-US</dc:language>
  <cp:lastModifiedBy>CSeccombe</cp:lastModifiedBy>
  <dcterms:modified xsi:type="dcterms:W3CDTF">2006-03-10T11:39:16Z</dcterms:modified>
  <cp:revision>2</cp:revision>
  <dc:subject/>
  <dc:title>Slide 1</dc:title>
</cp:coreProperties>
</file>