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FBD-B2BD-4A1F-A93B-4E948411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E56-8426-446D-BD5F-B0D5D6F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71B-11C4-4A7B-BFDE-306F53B8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D96-1EF2-47F9-8342-A66765A1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92B-DD1B-44EB-88B3-60D1FA5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072-ED73-44E4-AA0A-56C49542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EF3-280E-4D6E-AF1F-7300B9D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836-E854-4F25-8F00-5DA03E33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EEE-B277-4EAE-B7B2-B331AD89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7A4-103E-4D80-840F-535E79B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8E4-7169-4989-BA9D-5337E9D9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84F-E4C3-47FE-A977-DA45EE7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76AC-FC7C-4CAE-B3BB-0C9608D88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arte des fuseaux horaire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66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s fuseaux hor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08:33Z</dcterms:created>
  <dc:creator>CSeccombe</dc:creator>
  <dc:description/>
  <dc:language>en-US</dc:language>
  <cp:lastModifiedBy>CSeccombe</cp:lastModifiedBy>
  <dcterms:modified xsi:type="dcterms:W3CDTF">2006-03-10T11:39:16Z</dcterms:modified>
  <cp:revision>2</cp:revision>
  <dc:subject/>
  <dc:title>Slide 1</dc:title>
</cp:coreProperties>
</file>