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B50D-D767-4676-B880-CBE82DEA72E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A4D2-95CB-45F2-978C-518248306C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660C-086A-45FE-B308-03779386228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2717-9352-42CB-BDA0-1D2E6571738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C2F4-A76B-44C1-B1B9-6BA162D1A6E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A2F3-EB74-4756-BD1C-EC15F888F3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E70E-3E50-468B-A101-2FE8EC925D4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4B9F-38C5-43E1-9DFF-775C8E924E5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21E1-DECC-4D36-A971-C2F4C4A72C6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8155-FE91-4BC4-B589-D23CDC10C2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50B0-3034-484C-83B6-33046D4ADC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B09C-FA62-48E9-B9A4-0DCE6FCFDF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B0B5-53D6-4468-ADAC-D7A1BC13208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9ABE-8D95-44EA-86E4-973CDBF27A4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C67E-C7F1-4D59-9786-DD1A60E59E7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B773-E6C5-42DA-A74D-CE079667973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21A1-A89B-416D-A7EA-F9CE2901DE3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4978-047D-49BD-8F3F-0A382DD71A8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8CB8-C579-4FE0-9757-6CD9685B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D6E-2947-4360-85E8-26C8ED74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99A-85CB-4A53-B248-3EC7678E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33B-B644-496B-B8D8-1B6A796E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9897-719A-4E04-A41D-372C1E43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5D2-6535-4464-9D92-AD4C2E02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676A-3C4C-44DD-9890-FF52107B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83C5-2AF1-4412-8097-3268EB7E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8AE-F785-49A4-A3AA-85F48AEF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BE13-2BA8-4FFC-8F23-26534EC8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853-B8D6-4610-A3BD-88A31896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4A57-ACA3-4F74-8BF3-A47D019D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907F-538F-43EC-BFC3-C23E9EF5E52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nderlandschools.org/international/resources-worldcup-map.htm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3313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tes for the teac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2 celeb quotes set the scene for finding out about the World Cup teams – do the students know more about the teams taking par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each student the list of teams in English and each table or group a set of the team names in Spanish.  They work as teams to match up the Spanish and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 you can talk about which countries speak which languages, particularly Spanish.  (KS2 Framework IU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you have some more time, you could use the World Cup map </a:t>
            </a:r>
            <a:r>
              <a:rPr b="0" lang="en-GB" sz="2400" spc="-1" strike="noStrike" u="sng">
                <a:solidFill>
                  <a:srgbClr val="ff5050"/>
                </a:solidFill>
                <a:uFillTx/>
                <a:latin typeface="Comic Sans MS"/>
                <a:hlinkClick r:id="rId2"/>
              </a:rPr>
              <a:t>http://www.sunderlandschools.org/international/resources-worldcup-map.htm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 see what students can find out about the Spanish-speaking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2060640"/>
            <a:ext cx="4464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Niger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Paragu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Portug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Rep of Kore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35640" y="206064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Nigeri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35640" y="3284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Paragu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458136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Portug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35640" y="5546880"/>
            <a:ext cx="37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República de Co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2060640"/>
            <a:ext cx="4464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Serb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Slovak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Sloven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South Afr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35640" y="206064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Serbi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3284640"/>
            <a:ext cx="34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Eslovaqu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58136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Esloven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580536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Sudáfr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060640"/>
            <a:ext cx="4464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Spa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Switzer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Urugu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US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206064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Españ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5640" y="3284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Sui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35640" y="458136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Urugu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580536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Estados U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9144000" cy="69483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glis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enc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37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ustral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amero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Englan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Ghan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New Zeal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Niger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outh Afric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S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lger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amero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ôte d’Ivoi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Franc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witzerlan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rgentin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hil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Hondura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Mexic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Paragu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pa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rugu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79280" y="1484280"/>
            <a:ext cx="2808360" cy="53737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1484280"/>
            <a:ext cx="2880000" cy="3313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1484280"/>
            <a:ext cx="2916360" cy="5040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0"/>
          <a:ext cx="9144000" cy="69483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glis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enc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37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ustral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amero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Englan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Ghan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New Zeal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Niger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outh Afric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S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lger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amero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ôte d’Ivoi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Franc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witzerlan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rgentin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hil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Hondura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Mexic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Paragu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pa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rugu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132000" y="1484280"/>
            <a:ext cx="2880000" cy="3313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27640" y="1484280"/>
            <a:ext cx="2916360" cy="5040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0"/>
          <a:ext cx="9144000" cy="69483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glis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enc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37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ustral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amero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Englan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Ghan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New Zeal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Niger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outh Afric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S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lger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amero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ôte d’Ivoi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Franc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witzerlan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rgentin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hil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Hondura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Mexic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Paragu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pa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rugu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227640" y="1484280"/>
            <a:ext cx="2916360" cy="5040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0"/>
          <a:ext cx="9144000" cy="69483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glis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enc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37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ustral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amero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Englan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Ghan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New Zeal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Niger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outh Afric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S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lger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amero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ôte d’Ivoi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Franc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witzerlan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rgentin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hil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Hondura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Mexic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Paragu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pa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rugu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867280" y="5084640"/>
            <a:ext cx="3276720" cy="1773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340000" y="692280"/>
            <a:ext cx="6497640" cy="1866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84788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64000" y="260280"/>
            <a:ext cx="55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ffffd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El Mundial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4221000"/>
            <a:ext cx="2471760" cy="2471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84360" y="1700280"/>
            <a:ext cx="6264360" cy="3097080"/>
          </a:xfrm>
          <a:prstGeom prst="wedgeRoundRectCallout">
            <a:avLst>
              <a:gd name="adj1" fmla="val -50023"/>
              <a:gd name="adj2" fmla="val 69578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 can’t wait for the USA’s game against Manchester United on Saturday 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260280"/>
            <a:ext cx="55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ffffd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El Mundial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857680" cy="3133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84360" y="1700280"/>
            <a:ext cx="6264360" cy="2736720"/>
          </a:xfrm>
          <a:prstGeom prst="wedgeRoundRectCallout">
            <a:avLst>
              <a:gd name="adj1" fmla="val -50023"/>
              <a:gd name="adj2" fmla="val 85324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I think Barcelona or Milan will win the World Cup !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736640"/>
            <a:ext cx="784836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How much do you know about the team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66ffff"/>
                </a:solidFill>
                <a:latin typeface="Comic Sans MS"/>
              </a:rPr>
              <a:t>Can you match up the name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2060640"/>
            <a:ext cx="3456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Alger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Argent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Austral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Braz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2060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Argel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3284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Argent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4581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Austral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5805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Bras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2060640"/>
            <a:ext cx="4464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Camero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Chi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Côte d’Ivoi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Denma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35640" y="2060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Camerú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5640" y="3284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Chi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35640" y="458136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Costa de Marf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580536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Dinamar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2060640"/>
            <a:ext cx="4464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Eng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Fr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Germa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Gha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206064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Inglaterr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5640" y="3284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Franc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35640" y="458136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Aleman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35640" y="580536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Gha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2060640"/>
            <a:ext cx="4464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Gree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Hondur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Ita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Jap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35640" y="206064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Greci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3284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Hondur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458136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Ital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35640" y="580536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Jap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2060640"/>
            <a:ext cx="4464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Korea DP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Mex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Netherla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New Zea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2060640"/>
            <a:ext cx="3708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RDP de Corea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35640" y="3284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Méx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4581360"/>
            <a:ext cx="37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Países Ba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5805360"/>
            <a:ext cx="37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Nueva Zela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6-13T20:31:48Z</dcterms:modified>
  <cp:revision>198</cp:revision>
  <dc:subject/>
  <dc:title>TITLE</dc:title>
</cp:coreProperties>
</file>