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D38C-3DCB-42A5-A9FB-E60C2E49B2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96C0-16FE-455A-B904-FF6952A2C8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0CDB-320E-43D5-811F-8AF4EE275D2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25C9-0290-425E-A147-B754E0892D2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5D8-3125-4D85-99DF-5F215C346EF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7B7D-AE0D-44F9-8BF3-5E76EC5F9E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8196-F3EB-463F-B060-85C9BA51CB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E7C4-CB49-4532-B121-67971D7341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2FE7-4786-4C43-852F-151965DF47D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5B9A-483F-4D14-86EC-384D0EFDAF8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020B-7949-47A8-9ABE-F6A4F5576C7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BCCD-D4D8-48A8-8764-12D222D25B4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9FE-62F8-4D40-9BE2-33F8D2A7D41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AD9C-8F75-44E2-93FA-3D0A4A46AF0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2E26-7E11-4DE5-82A2-D3AD33CA26C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6E5-941C-4803-A984-263D3416B56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5433-C3AF-4952-87B9-3F70133433C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7FCB-AE89-4D87-A5F2-85114C75EC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002-97A3-4EC7-9637-A0133B77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107-E5B7-422D-A31E-EC24E798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0A6-E8B0-4CC7-BE57-E58ABB5A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1E0-46F6-4A86-9FFE-9EBB5529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1B0-06FC-41B2-A04E-96A92CB7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403-2585-415F-98E5-516816B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90B-A776-4574-AF42-C94E526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10D-37CD-49C8-BA6A-9406E3C5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553-DC31-4098-B0D0-C444407F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905-1185-4B96-BBFE-B339820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366-E6CE-4253-A3F1-246E5B3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7EB-A36E-45B0-AAA1-28BDAAD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4E56-A2B1-4383-9562-00B1D2CE50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nderlandschools.org/international/resources-worldcup-map.ht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3313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2 celeb quotes set the scene for finding out about the World Cup teams – do the students know more about the teams taking par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each student the list of teams in English and each table or group a set of the team names in Spanish.  They work as teams to match up the Spanish and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you can talk about which countries speak which languages, particularly Spanish.  (KS2 Framework IU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have some more time, you could use the World Cup map </a:t>
            </a:r>
            <a:r>
              <a:rPr b="0" lang="en-GB" sz="2400" spc="-1" strike="noStrike" u="sng">
                <a:solidFill>
                  <a:srgbClr val="ff5050"/>
                </a:solidFill>
                <a:uFillTx/>
                <a:latin typeface="Comic Sans MS"/>
                <a:hlinkClick r:id="rId2"/>
              </a:rPr>
              <a:t>http://www.sunderlandschools.org/international/resources-worldcup-map.ht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see what students can find out about the Spanish-speaking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Nige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Para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Portu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Rep of Kor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Niger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Para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Portu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5546880"/>
            <a:ext cx="37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epública de Co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erb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lovak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love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outh Af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Serb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28464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slovaqu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slove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Sudáf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p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witzer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Uru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U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Españ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Sui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Urugu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5805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Estados U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79280" y="1484280"/>
            <a:ext cx="2808360" cy="5373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1484280"/>
            <a:ext cx="2880000" cy="3313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484280"/>
            <a:ext cx="2916360" cy="504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132000" y="1484280"/>
            <a:ext cx="2880000" cy="3313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484280"/>
            <a:ext cx="2916360" cy="504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227640" y="1484280"/>
            <a:ext cx="2916360" cy="5040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9144000" cy="6948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gl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nc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nish-speaking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3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ustral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Engl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Gha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ew Zealan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Ni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outh Afric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S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lg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amero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ôte d’Ivoi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Fran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witzerl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Argentin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hi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Hondura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Mexic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ara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Sp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Urugu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867280" y="5084640"/>
            <a:ext cx="3276720" cy="177336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6497640" cy="186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8478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260280"/>
            <a:ext cx="55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El Mundial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247176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84360" y="1700280"/>
            <a:ext cx="6264360" cy="3097080"/>
          </a:xfrm>
          <a:prstGeom prst="wedgeRoundRectCallout">
            <a:avLst>
              <a:gd name="adj1" fmla="val -50023"/>
              <a:gd name="adj2" fmla="val 69578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 can’t wait for the USA’s game against Manchester United on Saturday 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60280"/>
            <a:ext cx="55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El Mundial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857680" cy="313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4360" y="1700280"/>
            <a:ext cx="6264360" cy="2736720"/>
          </a:xfrm>
          <a:prstGeom prst="wedgeRoundRectCallout">
            <a:avLst>
              <a:gd name="adj1" fmla="val -50023"/>
              <a:gd name="adj2" fmla="val 85324"/>
              <a:gd name="adj3" fmla="val 1666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5000" spc="-1" strike="noStrike">
                <a:solidFill>
                  <a:srgbClr val="000000"/>
                </a:solidFill>
                <a:latin typeface="Comic Sans MS"/>
              </a:rPr>
              <a:t>I think Barcelona or Milan will win the World Cup !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736640"/>
            <a:ext cx="78483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d9"/>
                </a:solidFill>
                <a:latin typeface="Comic Sans MS"/>
              </a:rPr>
              <a:t>How much do you know about the team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6ffff"/>
                </a:solidFill>
                <a:latin typeface="Comic Sans MS"/>
              </a:rPr>
              <a:t>Can you match up the name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2060640"/>
            <a:ext cx="3456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lge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rgent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Austra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Braz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2060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rge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rgent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4581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ustra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580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Bras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Camer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Ch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Côte d’Ivoi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Denm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060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amerú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4581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Costa de Marf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Dinamar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Fr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Germ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Gh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nglaterr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Fran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Aleman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Gh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Gree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Hondu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Ita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Jap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060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Grec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Hondu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581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ta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58053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Jap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12000" y="6453360"/>
            <a:ext cx="1332000" cy="404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060640"/>
            <a:ext cx="446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Korea DP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Mex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Netherl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New Zea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060640"/>
            <a:ext cx="3708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RDP de Corea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3284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Méx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4581360"/>
            <a:ext cx="37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Países B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5805360"/>
            <a:ext cx="37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Nueva Zel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0-06-13T20:31:48Z</dcterms:modified>
  <cp:revision>198</cp:revision>
  <dc:subject/>
  <dc:title>TITLE</dc:title>
</cp:coreProperties>
</file>