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79DC-6EB7-443D-984C-E5EAD03BC8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0B74-AC2C-465D-AC02-0CB4065BB1C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8056-2BE5-4D95-BFF0-5AA33C0FB1B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 escu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BB15-4E94-4207-8ED3-0BF35BE2A63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estre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2678-A640-427B-9BDB-E884994CA7F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dos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198A-3660-4498-AB87-4AA22C5394F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seis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A0B5-4224-4E45-994A-5A2F82B0270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cru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9CAA-A8E7-4390-93B1-E820D92B2C4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 círcu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0F92-E327-423C-979D-3BB245AEBB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tres franj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FCA0-6943-4207-9357-D165564401C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4276-01D9-4C01-BFBE-7D857C64CFB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33DA-6279-43A5-BE89-9D97EBE31E8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FEBC-335D-4837-BDEA-C03B43FD114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4FFC-0E0A-48DF-BC42-55E8267398F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E86D-28F2-470F-8FBD-96979BC731F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F9A2-6BE3-4F3D-AAA9-A29186CBFED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A20B-A781-4AB7-A0EA-A2F1CCC7174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4FC3-D682-4E0C-802D-3C1F3D5C941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DB1E-3077-46F0-9C9A-D3197A091C9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42A2-B60B-4176-8E92-88A40839254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amari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005C-1D98-41C6-8DAE-1C1243B738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2E9D-163B-4566-953B-9821A7AE282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 y tiene un escu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B15A-0327-426B-A2C0-BF1406A9A62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blan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3587-0A8F-4BEA-9C8B-5C0734F3E3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, y tiene un escudo y un círcu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812C-1683-4688-98F3-5369D0984D1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, y tiene un escudo, un círculo y cuatro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6302-CC6A-493E-AFD7-148696C6DFE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2000-3F64-4373-A0E1-FCFD3EDFB2A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blanca y az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5F01-A1D0-495D-8723-7662F480751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blanca y az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8A63-D0FC-4575-B562-BA2DF2CA598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ver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E365-827E-4B00-8C29-2A8F09E4CAB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verde y blan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3758-D8E5-4C8C-8073-97B6B1F18A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amari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BDC8-9B94-4398-9639-309F783F3C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neg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6A3A-EF23-4CFA-800B-F172F94964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82CD-69BD-4643-9B56-276D50A3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06C-16F3-49C8-B9BD-37B3BCBD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F7E-2A68-4251-BD79-DC2DA889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341C-4273-4CF9-868C-910F8AE2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3330-D95D-4A12-9CA4-2ED04014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DEEE-F6A0-4892-B3B2-9882D04D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8528-5628-448F-9CD1-3B7DA7A9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28F-FF5E-42A6-9FED-AE0C577B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9A0-C66C-419E-B2F6-08DBDF3E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D871-9A3D-4909-AB3F-D998CEA9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DA4F-DC5B-4AAE-8938-E5DEF905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295-7538-486B-B5D1-31E77766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F019-94F0-4204-8E9F-30897A978E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0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3.png"/><Relationship Id="rId3" Type="http://schemas.openxmlformats.org/officeDocument/2006/relationships/image" Target="../media/image17.png"/><Relationship Id="rId4" Type="http://schemas.openxmlformats.org/officeDocument/2006/relationships/image" Target="../media/image23.png"/><Relationship Id="rId5" Type="http://schemas.openxmlformats.org/officeDocument/2006/relationships/image" Target="../media/image18.png"/><Relationship Id="rId6" Type="http://schemas.openxmlformats.org/officeDocument/2006/relationships/image" Target="../media/image10.png"/><Relationship Id="rId7" Type="http://schemas.openxmlformats.org/officeDocument/2006/relationships/image" Target="../media/image24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2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jpeg"/><Relationship Id="rId16" Type="http://schemas.openxmlformats.org/officeDocument/2006/relationships/image" Target="../media/image3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79280" y="2203560"/>
            <a:ext cx="8820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I ca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join in with descriptions of flag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use actions to help me to speak accurate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say what colours a certain flag h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7"/>
                </a:solidFill>
                <a:latin typeface="Comic Sans MS"/>
              </a:rPr>
              <a:t>say what shapes a certain flag h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24000" y="476280"/>
            <a:ext cx="2303280" cy="6532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roj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azu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mari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ver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lan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g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843280" y="476280"/>
            <a:ext cx="6121440" cy="65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ro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azu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maril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ver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blan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g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4" descr="eslarge[1]"/>
          <p:cNvPicPr/>
          <p:nvPr/>
        </p:nvPicPr>
        <p:blipFill>
          <a:blip r:embed="rId1"/>
          <a:stretch/>
        </p:blipFill>
        <p:spPr>
          <a:xfrm>
            <a:off x="1244520" y="1084320"/>
            <a:ext cx="3240000" cy="214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SerbiaF[1]"/>
          <p:cNvPicPr/>
          <p:nvPr/>
        </p:nvPicPr>
        <p:blipFill>
          <a:blip r:embed="rId2"/>
          <a:stretch/>
        </p:blipFill>
        <p:spPr>
          <a:xfrm>
            <a:off x="2124000" y="4221000"/>
            <a:ext cx="3313080" cy="221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1200px-Flag_of_Croatia"/>
          <p:cNvPicPr/>
          <p:nvPr/>
        </p:nvPicPr>
        <p:blipFill>
          <a:blip r:embed="rId4"/>
          <a:stretch/>
        </p:blipFill>
        <p:spPr>
          <a:xfrm>
            <a:off x="5254560" y="1851120"/>
            <a:ext cx="3471840" cy="17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Image result for morocco flag"/>
          <p:cNvPicPr/>
          <p:nvPr/>
        </p:nvPicPr>
        <p:blipFill>
          <a:blip r:embed="rId2"/>
          <a:stretch/>
        </p:blipFill>
        <p:spPr>
          <a:xfrm>
            <a:off x="1852560" y="1047600"/>
            <a:ext cx="382284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8" descr="Image result for senegal flag"/>
          <p:cNvPicPr/>
          <p:nvPr/>
        </p:nvPicPr>
        <p:blipFill>
          <a:blip r:embed="rId3"/>
          <a:stretch/>
        </p:blipFill>
        <p:spPr>
          <a:xfrm>
            <a:off x="3635280" y="3933720"/>
            <a:ext cx="3799080" cy="253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Image result for panama flag"/>
          <p:cNvPicPr/>
          <p:nvPr/>
        </p:nvPicPr>
        <p:blipFill>
          <a:blip r:embed="rId2"/>
          <a:stretch/>
        </p:blipFill>
        <p:spPr>
          <a:xfrm>
            <a:off x="1654200" y="1487520"/>
            <a:ext cx="5835600" cy="38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5" descr="aularge[1]"/>
          <p:cNvPicPr/>
          <p:nvPr/>
        </p:nvPicPr>
        <p:blipFill>
          <a:blip r:embed="rId1"/>
          <a:stretch/>
        </p:blipFill>
        <p:spPr>
          <a:xfrm>
            <a:off x="1332000" y="1773360"/>
            <a:ext cx="6553080" cy="3287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Picture 4" descr="dklarge[1]"/>
          <p:cNvPicPr/>
          <p:nvPr/>
        </p:nvPicPr>
        <p:blipFill>
          <a:blip r:embed="rId1"/>
          <a:stretch/>
        </p:blipFill>
        <p:spPr>
          <a:xfrm>
            <a:off x="4284720" y="669960"/>
            <a:ext cx="2498760" cy="1893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england"/>
          <p:cNvPicPr/>
          <p:nvPr/>
        </p:nvPicPr>
        <p:blipFill>
          <a:blip r:embed="rId2"/>
          <a:stretch/>
        </p:blipFill>
        <p:spPr>
          <a:xfrm>
            <a:off x="468360" y="1297080"/>
            <a:ext cx="297648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chlarge[1]"/>
          <p:cNvPicPr/>
          <p:nvPr/>
        </p:nvPicPr>
        <p:blipFill>
          <a:blip r:embed="rId3"/>
          <a:stretch/>
        </p:blipFill>
        <p:spPr>
          <a:xfrm>
            <a:off x="7093080" y="2768760"/>
            <a:ext cx="1709640" cy="170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4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5"/>
          <a:stretch/>
        </p:blipFill>
        <p:spPr>
          <a:xfrm>
            <a:off x="468360" y="4921200"/>
            <a:ext cx="2786040" cy="1728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6" name="Picture 8" descr="Image result for iceland flag"/>
          <p:cNvPicPr/>
          <p:nvPr/>
        </p:nvPicPr>
        <p:blipFill>
          <a:blip r:embed="rId6"/>
          <a:stretch/>
        </p:blipFill>
        <p:spPr>
          <a:xfrm>
            <a:off x="3635280" y="3624120"/>
            <a:ext cx="2897280" cy="20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Picture 5" descr="jplarge[1]"/>
          <p:cNvPicPr/>
          <p:nvPr/>
        </p:nvPicPr>
        <p:blipFill>
          <a:blip r:embed="rId1"/>
          <a:stretch/>
        </p:blipFill>
        <p:spPr>
          <a:xfrm>
            <a:off x="1763640" y="1919160"/>
            <a:ext cx="3024360" cy="2021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brlarge[1]"/>
          <p:cNvPicPr/>
          <p:nvPr/>
        </p:nvPicPr>
        <p:blipFill>
          <a:blip r:embed="rId2"/>
          <a:stretch/>
        </p:blipFill>
        <p:spPr>
          <a:xfrm>
            <a:off x="5508720" y="549360"/>
            <a:ext cx="3311280" cy="233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krlarge[1]"/>
          <p:cNvPicPr/>
          <p:nvPr/>
        </p:nvPicPr>
        <p:blipFill>
          <a:blip r:embed="rId3"/>
          <a:stretch/>
        </p:blipFill>
        <p:spPr>
          <a:xfrm>
            <a:off x="5219640" y="3645000"/>
            <a:ext cx="3067200" cy="20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Picture 6" descr=""/>
          <p:cNvPicPr/>
          <p:nvPr/>
        </p:nvPicPr>
        <p:blipFill>
          <a:blip r:embed="rId4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File:Flag of Tunisia.svg"/>
          <p:cNvPicPr/>
          <p:nvPr/>
        </p:nvPicPr>
        <p:blipFill>
          <a:blip r:embed="rId5"/>
          <a:stretch/>
        </p:blipFill>
        <p:spPr>
          <a:xfrm>
            <a:off x="684360" y="4611600"/>
            <a:ext cx="2950920" cy="196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Picture 4" descr="mxlarge[1]"/>
          <p:cNvPicPr/>
          <p:nvPr/>
        </p:nvPicPr>
        <p:blipFill>
          <a:blip r:embed="rId1"/>
          <a:stretch/>
        </p:blipFill>
        <p:spPr>
          <a:xfrm>
            <a:off x="2706840" y="5589720"/>
            <a:ext cx="1803240" cy="1095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nglarge[1]"/>
          <p:cNvPicPr/>
          <p:nvPr/>
        </p:nvPicPr>
        <p:blipFill>
          <a:blip r:embed="rId2"/>
          <a:stretch/>
        </p:blipFill>
        <p:spPr>
          <a:xfrm>
            <a:off x="5011560" y="1687680"/>
            <a:ext cx="2016360" cy="100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Picture 8" descr="SerbiaF[1]"/>
          <p:cNvPicPr/>
          <p:nvPr/>
        </p:nvPicPr>
        <p:blipFill>
          <a:blip r:embed="rId3"/>
          <a:stretch/>
        </p:blipFill>
        <p:spPr>
          <a:xfrm>
            <a:off x="258840" y="4379760"/>
            <a:ext cx="1677960" cy="111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11" descr="eslarge[1]"/>
          <p:cNvPicPr/>
          <p:nvPr/>
        </p:nvPicPr>
        <p:blipFill>
          <a:blip r:embed="rId4"/>
          <a:stretch/>
        </p:blipFill>
        <p:spPr>
          <a:xfrm>
            <a:off x="2746440" y="2751120"/>
            <a:ext cx="1763640" cy="1166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arlarge[1]"/>
          <p:cNvPicPr/>
          <p:nvPr/>
        </p:nvPicPr>
        <p:blipFill>
          <a:blip r:embed="rId5"/>
          <a:stretch/>
        </p:blipFill>
        <p:spPr>
          <a:xfrm>
            <a:off x="5153040" y="395280"/>
            <a:ext cx="1584360" cy="1050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frlarge[1]"/>
          <p:cNvPicPr/>
          <p:nvPr/>
        </p:nvPicPr>
        <p:blipFill>
          <a:blip r:embed="rId6"/>
          <a:stretch/>
        </p:blipFill>
        <p:spPr>
          <a:xfrm>
            <a:off x="447840" y="1324080"/>
            <a:ext cx="1800000" cy="1201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delarge[1]"/>
          <p:cNvPicPr/>
          <p:nvPr/>
        </p:nvPicPr>
        <p:blipFill>
          <a:blip r:embed="rId7"/>
          <a:stretch/>
        </p:blipFill>
        <p:spPr>
          <a:xfrm>
            <a:off x="250920" y="2844720"/>
            <a:ext cx="1871640" cy="115596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131" name="Picture 18" descr=""/>
          <p:cNvPicPr/>
          <p:nvPr/>
        </p:nvPicPr>
        <p:blipFill>
          <a:blip r:embed="rId8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ru"/>
          <p:cNvPicPr/>
          <p:nvPr/>
        </p:nvPicPr>
        <p:blipFill>
          <a:blip r:embed="rId9"/>
          <a:stretch/>
        </p:blipFill>
        <p:spPr>
          <a:xfrm>
            <a:off x="5570640" y="5589720"/>
            <a:ext cx="1562040" cy="104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Picture 20" descr="Image result for peru flag"/>
          <p:cNvPicPr/>
          <p:nvPr/>
        </p:nvPicPr>
        <p:blipFill>
          <a:blip r:embed="rId10"/>
          <a:stretch/>
        </p:blipFill>
        <p:spPr>
          <a:xfrm>
            <a:off x="7211880" y="2525760"/>
            <a:ext cx="1687680" cy="112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Picture 21" descr="Image result for senegal flag"/>
          <p:cNvPicPr/>
          <p:nvPr/>
        </p:nvPicPr>
        <p:blipFill>
          <a:blip r:embed="rId11"/>
          <a:stretch/>
        </p:blipFill>
        <p:spPr>
          <a:xfrm>
            <a:off x="2411280" y="4122720"/>
            <a:ext cx="1770120" cy="117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Picture 22" descr="be"/>
          <p:cNvPicPr/>
          <p:nvPr/>
        </p:nvPicPr>
        <p:blipFill>
          <a:blip r:embed="rId12"/>
          <a:stretch/>
        </p:blipFill>
        <p:spPr>
          <a:xfrm>
            <a:off x="7510320" y="731880"/>
            <a:ext cx="1295640" cy="110628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  <p:pic>
        <p:nvPicPr>
          <p:cNvPr id="136" name="Picture 23" descr="Colombia_flag_wallpaper"/>
          <p:cNvPicPr/>
          <p:nvPr/>
        </p:nvPicPr>
        <p:blipFill>
          <a:blip r:embed="rId13"/>
          <a:stretch/>
        </p:blipFill>
        <p:spPr>
          <a:xfrm>
            <a:off x="2755800" y="1101600"/>
            <a:ext cx="1758960" cy="117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Picture 24" descr="1200px-Flag_of_Croatia"/>
          <p:cNvPicPr/>
          <p:nvPr/>
        </p:nvPicPr>
        <p:blipFill>
          <a:blip r:embed="rId14"/>
          <a:stretch/>
        </p:blipFill>
        <p:spPr>
          <a:xfrm>
            <a:off x="4594320" y="4379760"/>
            <a:ext cx="1950840" cy="97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Picture 25" descr="iran-flag-126-p"/>
          <p:cNvPicPr/>
          <p:nvPr/>
        </p:nvPicPr>
        <p:blipFill>
          <a:blip r:embed="rId15"/>
          <a:stretch/>
        </p:blipFill>
        <p:spPr>
          <a:xfrm>
            <a:off x="5068800" y="3036960"/>
            <a:ext cx="173664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Picture 26" descr="Image result for egypt flag"/>
          <p:cNvPicPr/>
          <p:nvPr/>
        </p:nvPicPr>
        <p:blipFill>
          <a:blip r:embed="rId16"/>
          <a:stretch/>
        </p:blipFill>
        <p:spPr>
          <a:xfrm>
            <a:off x="6989760" y="4097160"/>
            <a:ext cx="1816200" cy="121140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eliz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6" descr="Belize Flag – Flag of Belize"/>
          <p:cNvPicPr/>
          <p:nvPr/>
        </p:nvPicPr>
        <p:blipFill>
          <a:blip r:embed="rId1"/>
          <a:stretch/>
        </p:blipFill>
        <p:spPr>
          <a:xfrm>
            <a:off x="1476360" y="1484280"/>
            <a:ext cx="62658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oliv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6" descr="bolarge"/>
          <p:cNvPicPr/>
          <p:nvPr/>
        </p:nvPicPr>
        <p:blipFill>
          <a:blip r:embed="rId1"/>
          <a:stretch/>
        </p:blipFill>
        <p:spPr>
          <a:xfrm>
            <a:off x="1547640" y="1484280"/>
            <a:ext cx="61930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195640" y="1916280"/>
            <a:ext cx="5616360" cy="3311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Oval 8"/>
          <p:cNvSpPr/>
          <p:nvPr/>
        </p:nvSpPr>
        <p:spPr>
          <a:xfrm>
            <a:off x="1547640" y="1484280"/>
            <a:ext cx="865440" cy="35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835280" y="1773360"/>
            <a:ext cx="288720" cy="49687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osta R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Picture 6" descr="Flag of Costa Rica"/>
          <p:cNvPicPr/>
          <p:nvPr/>
        </p:nvPicPr>
        <p:blipFill>
          <a:blip r:embed="rId1"/>
          <a:stretch/>
        </p:blipFill>
        <p:spPr>
          <a:xfrm>
            <a:off x="1403280" y="1484280"/>
            <a:ext cx="64087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835280" y="573408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Dominican Republ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6" descr="Dominican Republic Flag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cuad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6" descr="Flag of Ecuador, Ecuadorian Flag"/>
          <p:cNvPicPr/>
          <p:nvPr/>
        </p:nvPicPr>
        <p:blipFill>
          <a:blip r:embed="rId1"/>
          <a:stretch/>
        </p:blipFill>
        <p:spPr>
          <a:xfrm>
            <a:off x="971640" y="1557360"/>
            <a:ext cx="727236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anamá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6" descr="Flag of Panama"/>
          <p:cNvPicPr/>
          <p:nvPr/>
        </p:nvPicPr>
        <p:blipFill>
          <a:blip r:embed="rId1"/>
          <a:stretch/>
        </p:blipFill>
        <p:spPr>
          <a:xfrm>
            <a:off x="1547640" y="1557360"/>
            <a:ext cx="60487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uerto R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6" descr="Puerto Rican Flag, Flag of Puerto Rico"/>
          <p:cNvPicPr/>
          <p:nvPr/>
        </p:nvPicPr>
        <p:blipFill>
          <a:blip r:embed="rId1"/>
          <a:stretch/>
        </p:blipFill>
        <p:spPr>
          <a:xfrm>
            <a:off x="826920" y="1557360"/>
            <a:ext cx="77058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Venezue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6" descr="Flag of Venezuela, Venezuelan Flag"/>
          <p:cNvPicPr/>
          <p:nvPr/>
        </p:nvPicPr>
        <p:blipFill>
          <a:blip r:embed="rId1"/>
          <a:stretch/>
        </p:blipFill>
        <p:spPr>
          <a:xfrm>
            <a:off x="1619280" y="1557360"/>
            <a:ext cx="611964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AutoShape 9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7" descr="dklarge[1]"/>
          <p:cNvPicPr/>
          <p:nvPr/>
        </p:nvPicPr>
        <p:blipFill>
          <a:blip r:embed="rId1"/>
          <a:stretch/>
        </p:blipFill>
        <p:spPr>
          <a:xfrm>
            <a:off x="971640" y="981000"/>
            <a:ext cx="2396880" cy="181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england"/>
          <p:cNvPicPr/>
          <p:nvPr/>
        </p:nvPicPr>
        <p:blipFill>
          <a:blip r:embed="rId2"/>
          <a:stretch/>
        </p:blipFill>
        <p:spPr>
          <a:xfrm>
            <a:off x="5870520" y="404640"/>
            <a:ext cx="2843280" cy="1706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jplarge[1]"/>
          <p:cNvPicPr/>
          <p:nvPr/>
        </p:nvPicPr>
        <p:blipFill>
          <a:blip r:embed="rId3"/>
          <a:stretch/>
        </p:blipFill>
        <p:spPr>
          <a:xfrm>
            <a:off x="5796000" y="4216320"/>
            <a:ext cx="2898720" cy="1936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chlarge[1]"/>
          <p:cNvPicPr/>
          <p:nvPr/>
        </p:nvPicPr>
        <p:blipFill>
          <a:blip r:embed="rId4"/>
          <a:stretch/>
        </p:blipFill>
        <p:spPr>
          <a:xfrm>
            <a:off x="646200" y="4724280"/>
            <a:ext cx="1728720" cy="1727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Image result for peru flag"/>
          <p:cNvPicPr/>
          <p:nvPr/>
        </p:nvPicPr>
        <p:blipFill>
          <a:blip r:embed="rId5"/>
          <a:stretch/>
        </p:blipFill>
        <p:spPr>
          <a:xfrm>
            <a:off x="5364000" y="2341440"/>
            <a:ext cx="2635560" cy="17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Picture 8" descr="Image result for poland flag"/>
          <p:cNvPicPr/>
          <p:nvPr/>
        </p:nvPicPr>
        <p:blipFill>
          <a:blip r:embed="rId6"/>
          <a:stretch/>
        </p:blipFill>
        <p:spPr>
          <a:xfrm>
            <a:off x="1833480" y="3124080"/>
            <a:ext cx="256068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Picture 9" descr="File:Flag of Tunisia.svg"/>
          <p:cNvPicPr/>
          <p:nvPr/>
        </p:nvPicPr>
        <p:blipFill>
          <a:blip r:embed="rId7"/>
          <a:stretch/>
        </p:blipFill>
        <p:spPr>
          <a:xfrm>
            <a:off x="3187800" y="5084640"/>
            <a:ext cx="2414520" cy="160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9" descr=""/>
          <p:cNvPicPr/>
          <p:nvPr/>
        </p:nvPicPr>
        <p:blipFill>
          <a:blip r:embed="rId8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9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5003640" y="1989000"/>
            <a:ext cx="1150920" cy="1152720"/>
          </a:xfrm>
          <a:prstGeom prst="flowChartConnector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9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5003640" y="1989000"/>
            <a:ext cx="1150920" cy="1152720"/>
          </a:xfrm>
          <a:prstGeom prst="flowChartConnector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11"/>
          <p:cNvSpPr/>
          <p:nvPr/>
        </p:nvSpPr>
        <p:spPr>
          <a:xfrm>
            <a:off x="3059280" y="2421000"/>
            <a:ext cx="792000" cy="792000"/>
          </a:xfrm>
          <a:custGeom>
            <a:avLst/>
            <a:gdLst/>
            <a:ahLst/>
            <a:rect l="l" t="t" r="r" b="b"/>
            <a:pathLst>
              <a:path w="792162" h="792162">
                <a:moveTo>
                  <a:pt x="1" y="302578"/>
                </a:moveTo>
                <a:lnTo>
                  <a:pt x="302581" y="302580"/>
                </a:lnTo>
                <a:lnTo>
                  <a:pt x="396081" y="0"/>
                </a:lnTo>
                <a:lnTo>
                  <a:pt x="489581" y="302580"/>
                </a:lnTo>
                <a:lnTo>
                  <a:pt x="792161" y="302578"/>
                </a:lnTo>
                <a:lnTo>
                  <a:pt x="547368" y="489581"/>
                </a:lnTo>
                <a:lnTo>
                  <a:pt x="640872" y="792160"/>
                </a:lnTo>
                <a:lnTo>
                  <a:pt x="396081" y="605154"/>
                </a:lnTo>
                <a:lnTo>
                  <a:pt x="151290" y="792160"/>
                </a:lnTo>
                <a:lnTo>
                  <a:pt x="244794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3708360" y="3500280"/>
            <a:ext cx="792360" cy="792360"/>
          </a:xfrm>
          <a:custGeom>
            <a:avLst/>
            <a:gdLst/>
            <a:ahLst/>
            <a:rect l="l" t="t" r="r" b="b"/>
            <a:pathLst>
              <a:path w="792163" h="792162">
                <a:moveTo>
                  <a:pt x="1" y="302578"/>
                </a:moveTo>
                <a:lnTo>
                  <a:pt x="302581" y="302580"/>
                </a:lnTo>
                <a:lnTo>
                  <a:pt x="396082" y="0"/>
                </a:lnTo>
                <a:lnTo>
                  <a:pt x="489582" y="302580"/>
                </a:lnTo>
                <a:lnTo>
                  <a:pt x="792162" y="302578"/>
                </a:lnTo>
                <a:lnTo>
                  <a:pt x="547368" y="489581"/>
                </a:lnTo>
                <a:lnTo>
                  <a:pt x="640873" y="792160"/>
                </a:lnTo>
                <a:lnTo>
                  <a:pt x="396082" y="605154"/>
                </a:lnTo>
                <a:lnTo>
                  <a:pt x="151290" y="792160"/>
                </a:lnTo>
                <a:lnTo>
                  <a:pt x="244795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AutoShape 13"/>
          <p:cNvSpPr/>
          <p:nvPr/>
        </p:nvSpPr>
        <p:spPr>
          <a:xfrm>
            <a:off x="6588000" y="3500280"/>
            <a:ext cx="792360" cy="792360"/>
          </a:xfrm>
          <a:custGeom>
            <a:avLst/>
            <a:gdLst/>
            <a:ahLst/>
            <a:rect l="l" t="t" r="r" b="b"/>
            <a:pathLst>
              <a:path w="792163" h="792162">
                <a:moveTo>
                  <a:pt x="1" y="302578"/>
                </a:moveTo>
                <a:lnTo>
                  <a:pt x="302581" y="302580"/>
                </a:lnTo>
                <a:lnTo>
                  <a:pt x="396082" y="0"/>
                </a:lnTo>
                <a:lnTo>
                  <a:pt x="489582" y="302580"/>
                </a:lnTo>
                <a:lnTo>
                  <a:pt x="792162" y="302578"/>
                </a:lnTo>
                <a:lnTo>
                  <a:pt x="547368" y="489581"/>
                </a:lnTo>
                <a:lnTo>
                  <a:pt x="640873" y="792160"/>
                </a:lnTo>
                <a:lnTo>
                  <a:pt x="396082" y="605154"/>
                </a:lnTo>
                <a:lnTo>
                  <a:pt x="151290" y="792160"/>
                </a:lnTo>
                <a:lnTo>
                  <a:pt x="244795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AutoShape 14"/>
          <p:cNvSpPr/>
          <p:nvPr/>
        </p:nvSpPr>
        <p:spPr>
          <a:xfrm>
            <a:off x="7596360" y="2421000"/>
            <a:ext cx="792000" cy="792000"/>
          </a:xfrm>
          <a:custGeom>
            <a:avLst/>
            <a:gdLst/>
            <a:ahLst/>
            <a:rect l="l" t="t" r="r" b="b"/>
            <a:pathLst>
              <a:path w="792162" h="792162">
                <a:moveTo>
                  <a:pt x="1" y="302578"/>
                </a:moveTo>
                <a:lnTo>
                  <a:pt x="302581" y="302580"/>
                </a:lnTo>
                <a:lnTo>
                  <a:pt x="396081" y="0"/>
                </a:lnTo>
                <a:lnTo>
                  <a:pt x="489581" y="302580"/>
                </a:lnTo>
                <a:lnTo>
                  <a:pt x="792161" y="302578"/>
                </a:lnTo>
                <a:lnTo>
                  <a:pt x="547368" y="489581"/>
                </a:lnTo>
                <a:lnTo>
                  <a:pt x="640872" y="792160"/>
                </a:lnTo>
                <a:lnTo>
                  <a:pt x="396081" y="605154"/>
                </a:lnTo>
                <a:lnTo>
                  <a:pt x="151290" y="792160"/>
                </a:lnTo>
                <a:lnTo>
                  <a:pt x="244794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162864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Comic Sans MS"/>
              </a:rPr>
              <a:t>¿</a:t>
            </a: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 Y </a:t>
            </a:r>
            <a:r>
              <a:rPr b="1" lang="en-GB" sz="7200" spc="-1" strike="noStrike">
                <a:solidFill>
                  <a:srgbClr val="66ffff"/>
                </a:solidFill>
                <a:latin typeface="Arial Black"/>
              </a:rPr>
              <a:t>tu</a:t>
            </a: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 bandera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Comic Sans MS"/>
              </a:rPr>
              <a:t>¿</a:t>
            </a: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16" descr="frlarge[1]"/>
          <p:cNvPicPr/>
          <p:nvPr/>
        </p:nvPicPr>
        <p:blipFill>
          <a:blip r:embed="rId1"/>
          <a:stretch/>
        </p:blipFill>
        <p:spPr>
          <a:xfrm>
            <a:off x="3492360" y="2792520"/>
            <a:ext cx="2646360" cy="176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aularge[1]"/>
          <p:cNvPicPr/>
          <p:nvPr/>
        </p:nvPicPr>
        <p:blipFill>
          <a:blip r:embed="rId2"/>
          <a:stretch/>
        </p:blipFill>
        <p:spPr>
          <a:xfrm>
            <a:off x="212760" y="932040"/>
            <a:ext cx="3279600" cy="1644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"/>
          <p:cNvPicPr/>
          <p:nvPr/>
        </p:nvPicPr>
        <p:blipFill>
          <a:blip r:embed="rId3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ru"/>
          <p:cNvPicPr/>
          <p:nvPr/>
        </p:nvPicPr>
        <p:blipFill>
          <a:blip r:embed="rId4"/>
          <a:stretch/>
        </p:blipFill>
        <p:spPr>
          <a:xfrm>
            <a:off x="5119560" y="4948200"/>
            <a:ext cx="2295720" cy="153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Picture 15" descr="Image result for panama flag"/>
          <p:cNvPicPr/>
          <p:nvPr/>
        </p:nvPicPr>
        <p:blipFill>
          <a:blip r:embed="rId5"/>
          <a:stretch/>
        </p:blipFill>
        <p:spPr>
          <a:xfrm>
            <a:off x="6440400" y="2792520"/>
            <a:ext cx="2533680" cy="168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Picture 17" descr="costa-rica-flag"/>
          <p:cNvPicPr/>
          <p:nvPr/>
        </p:nvPicPr>
        <p:blipFill>
          <a:blip r:embed="rId6"/>
          <a:stretch/>
        </p:blipFill>
        <p:spPr>
          <a:xfrm>
            <a:off x="3708360" y="411120"/>
            <a:ext cx="2216160" cy="150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Picture 18" descr="1200px-Flag_of_Croatia"/>
          <p:cNvPicPr/>
          <p:nvPr/>
        </p:nvPicPr>
        <p:blipFill>
          <a:blip r:embed="rId7"/>
          <a:stretch/>
        </p:blipFill>
        <p:spPr>
          <a:xfrm>
            <a:off x="6156360" y="844560"/>
            <a:ext cx="2867040" cy="14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19" descr="Image result for iceland flag"/>
          <p:cNvPicPr/>
          <p:nvPr/>
        </p:nvPicPr>
        <p:blipFill>
          <a:blip r:embed="rId8"/>
          <a:stretch/>
        </p:blipFill>
        <p:spPr>
          <a:xfrm>
            <a:off x="237960" y="2982960"/>
            <a:ext cx="2246400" cy="161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7" descr="SerbiaF[1]"/>
          <p:cNvPicPr/>
          <p:nvPr/>
        </p:nvPicPr>
        <p:blipFill>
          <a:blip r:embed="rId9"/>
          <a:stretch/>
        </p:blipFill>
        <p:spPr>
          <a:xfrm>
            <a:off x="1650960" y="4948200"/>
            <a:ext cx="2521080" cy="168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arlarge[1]"/>
          <p:cNvPicPr/>
          <p:nvPr/>
        </p:nvPicPr>
        <p:blipFill>
          <a:blip r:embed="rId2"/>
          <a:stretch/>
        </p:blipFill>
        <p:spPr>
          <a:xfrm>
            <a:off x="1042920" y="1197000"/>
            <a:ext cx="369252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6" descr="uylarge[1]"/>
          <p:cNvPicPr/>
          <p:nvPr/>
        </p:nvPicPr>
        <p:blipFill>
          <a:blip r:embed="rId3"/>
          <a:stretch/>
        </p:blipFill>
        <p:spPr>
          <a:xfrm>
            <a:off x="4570560" y="3789360"/>
            <a:ext cx="3506760" cy="237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4" descr="ptlarge[1]"/>
          <p:cNvPicPr/>
          <p:nvPr/>
        </p:nvPicPr>
        <p:blipFill>
          <a:blip r:embed="rId1"/>
          <a:stretch/>
        </p:blipFill>
        <p:spPr>
          <a:xfrm>
            <a:off x="1817640" y="1611360"/>
            <a:ext cx="5508720" cy="363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6" descr="mxlarge[1]"/>
          <p:cNvPicPr/>
          <p:nvPr/>
        </p:nvPicPr>
        <p:blipFill>
          <a:blip r:embed="rId1"/>
          <a:stretch/>
        </p:blipFill>
        <p:spPr>
          <a:xfrm>
            <a:off x="3492360" y="4149720"/>
            <a:ext cx="3743640" cy="2273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iran-flag-126-p"/>
          <p:cNvPicPr/>
          <p:nvPr/>
        </p:nvPicPr>
        <p:blipFill>
          <a:blip r:embed="rId3"/>
          <a:stretch/>
        </p:blipFill>
        <p:spPr>
          <a:xfrm>
            <a:off x="1547640" y="1341360"/>
            <a:ext cx="357048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4" descr="eslarge[1]"/>
          <p:cNvPicPr/>
          <p:nvPr/>
        </p:nvPicPr>
        <p:blipFill>
          <a:blip r:embed="rId1"/>
          <a:stretch/>
        </p:blipFill>
        <p:spPr>
          <a:xfrm>
            <a:off x="2124000" y="1844640"/>
            <a:ext cx="4824360" cy="3191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4" descr="delarge[1]"/>
          <p:cNvPicPr/>
          <p:nvPr/>
        </p:nvPicPr>
        <p:blipFill>
          <a:blip r:embed="rId1"/>
          <a:stretch/>
        </p:blipFill>
        <p:spPr>
          <a:xfrm>
            <a:off x="611280" y="1098720"/>
            <a:ext cx="4321080" cy="266832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9840" y="44280"/>
            <a:ext cx="3565440" cy="733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be"/>
          <p:cNvPicPr/>
          <p:nvPr/>
        </p:nvPicPr>
        <p:blipFill>
          <a:blip r:embed="rId3"/>
          <a:stretch/>
        </p:blipFill>
        <p:spPr>
          <a:xfrm>
            <a:off x="5407200" y="3371760"/>
            <a:ext cx="3341520" cy="285444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8-06-04T07:59:23Z</dcterms:modified>
  <cp:revision>220</cp:revision>
  <dc:subject/>
  <dc:title>TITLE</dc:title>
</cp:coreProperties>
</file>