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10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07C0-A870-44A4-8E89-003123C3E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0A1C-D254-4241-9A40-B1F2D90C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DFFF-DA6E-46EB-AAF8-459F6F200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A18B-8CEA-4FFF-AE90-0A359F3BA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E362-BC82-4455-87AB-25A01B0A0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8C80-8414-4DA8-8412-6147ACA9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145B-2072-443F-A7F3-EF01DDC8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92CD-BC90-45EC-8D20-ADC54930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C170-ABFA-43B6-9308-D791AB13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436C-8476-40C4-91F0-25422FC1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5AA3-810E-44E1-B600-B63AAC58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F337-E2C0-46B9-A261-20191FAB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934B-DA3A-4E6F-8A5F-8B87D47C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D439-9BBF-4C6E-A3A1-B5859DC7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12DE-631E-408D-BE66-D0EF35A4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4FFD-4607-415F-ACBC-1DC604FEF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02E6-F487-49F3-AF05-58B84105C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BE23-49E5-4B1B-BE1A-CB8D8213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5490-4EE5-4F66-B7B8-07A35A10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651D-C54C-41F1-BEB6-C4A87F93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357D-B034-4D74-910F-EF57E496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E35F-48C6-45C5-9433-DC2FFBDA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63A5-5EE3-4B1E-B450-03871B82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414B-94E7-4241-8476-4782A2A2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CB2B-0C85-4B11-8BDF-4F18AE5F756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624C-6866-4789-9A9F-E4CAA46E692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www.etwinning.net/" TargetMode="External"/><Relationship Id="rId5" Type="http://schemas.openxmlformats.org/officeDocument/2006/relationships/hyperlink" Target="http://www.epals.com/" TargetMode="External"/><Relationship Id="rId6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www.infoplease.com/" TargetMode="External"/><Relationship Id="rId5" Type="http://schemas.openxmlformats.org/officeDocument/2006/relationships/hyperlink" Target="http://www.unep-photo.com/" TargetMode="External"/><Relationship Id="rId6" Type="http://schemas.openxmlformats.org/officeDocument/2006/relationships/hyperlink" Target="http://www.german-way.com/" TargetMode="External"/><Relationship Id="rId7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79280" y="5516640"/>
            <a:ext cx="1017720" cy="11984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1187280" y="5805360"/>
            <a:ext cx="648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king the most of the World Cup</a:t>
            </a:r>
            <a:endParaRPr b="0" i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719280" cy="1089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8532720" y="5589720"/>
            <a:ext cx="243000" cy="1079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179280" y="1484280"/>
            <a:ext cx="864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6920" y="1413000"/>
            <a:ext cx="74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250920" y="1268280"/>
            <a:ext cx="3049560" cy="3097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3" name=""/>
          <p:cNvSpPr txBox="1"/>
          <p:nvPr/>
        </p:nvSpPr>
        <p:spPr>
          <a:xfrm>
            <a:off x="3348000" y="1341360"/>
            <a:ext cx="5545080" cy="2951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omo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tercultur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derstand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79280" y="5516640"/>
            <a:ext cx="1017720" cy="11984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1187280" y="5805360"/>
            <a:ext cx="648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king the most of the World Cup</a:t>
            </a:r>
            <a:endParaRPr b="0" i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719280" cy="1089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8532720" y="5589720"/>
            <a:ext cx="243000" cy="1079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35" name=""/>
          <p:cNvSpPr/>
          <p:nvPr/>
        </p:nvSpPr>
        <p:spPr>
          <a:xfrm>
            <a:off x="179280" y="1484280"/>
            <a:ext cx="864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26920" y="1413000"/>
            <a:ext cx="74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89000"/>
            <a:ext cx="87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Find out about the player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1413000"/>
            <a:ext cx="87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What will another team find different in Germany 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306864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Mascots – how well do they represent the country.  Do they just conform to stereotypes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79280" y="5516640"/>
            <a:ext cx="1017720" cy="11984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1187280" y="5805360"/>
            <a:ext cx="648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king the most of the World Cup</a:t>
            </a:r>
            <a:endParaRPr b="0" i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719280" cy="1089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8532720" y="5589720"/>
            <a:ext cx="243000" cy="1079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44" name=""/>
          <p:cNvSpPr/>
          <p:nvPr/>
        </p:nvSpPr>
        <p:spPr>
          <a:xfrm>
            <a:off x="179280" y="1484280"/>
            <a:ext cx="864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26920" y="1413000"/>
            <a:ext cx="74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79280" y="189000"/>
            <a:ext cx="878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Take it one step further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9280" y="1052640"/>
            <a:ext cx="87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Town-twinning links, 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e.g. Sunderland and Ess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50920" y="3645000"/>
            <a:ext cx="8496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fffcc"/>
                </a:solidFill>
                <a:uFillTx/>
                <a:latin typeface="Arial Rounded MT Bold"/>
                <a:hlinkClick r:id="rId4"/>
              </a:rPr>
              <a:t>www.etwinning.net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79280" y="4581360"/>
            <a:ext cx="5256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fffcc"/>
                </a:solidFill>
                <a:uFillTx/>
                <a:latin typeface="Arial Rounded MT Bold"/>
                <a:hlinkClick r:id="rId5"/>
              </a:rPr>
              <a:t>www.epals.com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0920" y="256536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FLAs and Comenius Assista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79280" y="5516640"/>
            <a:ext cx="1017720" cy="11984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1187280" y="5805360"/>
            <a:ext cx="648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king the most of the World Cup</a:t>
            </a:r>
            <a:endParaRPr b="0" i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719280" cy="1089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8532720" y="5589720"/>
            <a:ext cx="243000" cy="1079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55" name=""/>
          <p:cNvSpPr/>
          <p:nvPr/>
        </p:nvSpPr>
        <p:spPr>
          <a:xfrm>
            <a:off x="179280" y="1484280"/>
            <a:ext cx="864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26920" y="1413000"/>
            <a:ext cx="74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5280" y="33336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Benefits for your school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4000" y="148428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International School Awar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0920" y="2492280"/>
            <a:ext cx="87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More knowledgeable, tolerant and understanding pupi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79280" y="5516640"/>
            <a:ext cx="1017720" cy="11984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1187280" y="5805360"/>
            <a:ext cx="648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king the most of the World Cup</a:t>
            </a:r>
            <a:endParaRPr b="0" i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719280" cy="1089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8532720" y="5589720"/>
            <a:ext cx="243000" cy="1079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179280" y="1484280"/>
            <a:ext cx="864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6920" y="1413000"/>
            <a:ext cx="74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2411280" y="1052640"/>
            <a:ext cx="4394160" cy="3511440"/>
          </a:xfrm>
          <a:prstGeom prst="rect">
            <a:avLst/>
          </a:prstGeom>
          <a:ln w="9360">
            <a:solidFill>
              <a:srgbClr val="0066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79280" y="5516640"/>
            <a:ext cx="1017720" cy="11984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1187280" y="5805360"/>
            <a:ext cx="648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king the most of the World Cup</a:t>
            </a:r>
            <a:endParaRPr b="0" i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719280" cy="1089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8532720" y="5589720"/>
            <a:ext cx="243000" cy="1079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75" name=""/>
          <p:cNvSpPr/>
          <p:nvPr/>
        </p:nvSpPr>
        <p:spPr>
          <a:xfrm>
            <a:off x="179280" y="1484280"/>
            <a:ext cx="864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924360" y="189000"/>
            <a:ext cx="1584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mell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732720" y="981000"/>
            <a:ext cx="18716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wealth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659640" y="2637000"/>
            <a:ext cx="2171520" cy="108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eserved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300720" y="4508640"/>
            <a:ext cx="12096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ou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140360" y="4797360"/>
            <a:ext cx="1008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fa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619280" y="4221000"/>
            <a:ext cx="1800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ckney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116000" y="2637000"/>
            <a:ext cx="111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rud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042920" y="549360"/>
            <a:ext cx="2016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eccentri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0"/>
          <a:stretch/>
        </p:blipFill>
        <p:spPr>
          <a:xfrm>
            <a:off x="3348000" y="2205000"/>
            <a:ext cx="23814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9280" y="5516640"/>
            <a:ext cx="1017720" cy="11984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1187280" y="5805360"/>
            <a:ext cx="648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king the most of the World Cup</a:t>
            </a:r>
            <a:endParaRPr b="0" i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719280" cy="1089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8532720" y="5589720"/>
            <a:ext cx="243000" cy="1079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89" name=""/>
          <p:cNvSpPr/>
          <p:nvPr/>
        </p:nvSpPr>
        <p:spPr>
          <a:xfrm>
            <a:off x="179280" y="1484280"/>
            <a:ext cx="864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26920" y="1413000"/>
            <a:ext cx="74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42920" y="1052640"/>
            <a:ext cx="6985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Rounded MT Bold"/>
              </a:rPr>
              <a:t>WHY ?</a:t>
            </a:r>
            <a:endParaRPr b="1" lang="en-US" sz="96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Rounded MT Bold"/>
              <a:ea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79280" y="5516640"/>
            <a:ext cx="1017720" cy="11984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1187280" y="5805360"/>
            <a:ext cx="648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king the most of the World Cup</a:t>
            </a:r>
            <a:endParaRPr b="0" i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719280" cy="1089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8532720" y="5589720"/>
            <a:ext cx="243000" cy="1079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96" name=""/>
          <p:cNvSpPr/>
          <p:nvPr/>
        </p:nvSpPr>
        <p:spPr>
          <a:xfrm>
            <a:off x="250920" y="102888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chtung Surrender - For You Fritz Ze Euro 96 Championship is Over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(Daily Mirro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0920" y="4292640"/>
            <a:ext cx="8353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err We Go - Bring On the Krauts</a:t>
            </a: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(Daily Star)</a:t>
            </a: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0920" y="18900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Euro 96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0920" y="2965320"/>
            <a:ext cx="8569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Let’s Blitz Fritz</a:t>
            </a:r>
            <a:br>
              <a:rPr sz="4000"/>
            </a:br>
            <a:r>
              <a:rPr b="0" lang="en-GB" sz="3200" spc="-1" strike="noStrike">
                <a:solidFill>
                  <a:srgbClr val="ffffff"/>
                </a:solidFill>
                <a:latin typeface="Arial Rounded MT Bold"/>
              </a:rPr>
              <a:t>(Su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79280" y="5516640"/>
            <a:ext cx="1017720" cy="11984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1187280" y="5805360"/>
            <a:ext cx="648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king the most of the World Cup</a:t>
            </a:r>
            <a:endParaRPr b="0" i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719280" cy="1089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8532720" y="5589720"/>
            <a:ext cx="243000" cy="1079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04" name=""/>
          <p:cNvSpPr/>
          <p:nvPr/>
        </p:nvSpPr>
        <p:spPr>
          <a:xfrm>
            <a:off x="179280" y="1484280"/>
            <a:ext cx="864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26920" y="1413000"/>
            <a:ext cx="74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4000" y="260280"/>
            <a:ext cx="849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We Beat Them In 45 ... Now The Battle of 90</a:t>
            </a:r>
            <a:br>
              <a:rPr sz="4000"/>
            </a:br>
            <a:r>
              <a:rPr b="0" lang="en-GB" sz="3200" spc="-1" strike="noStrike">
                <a:solidFill>
                  <a:srgbClr val="ffffff"/>
                </a:solidFill>
                <a:latin typeface="Arial Rounded MT Bold"/>
              </a:rPr>
              <a:t>(Sun, 1990 World Cu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79280" y="5516640"/>
            <a:ext cx="1017720" cy="11984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1187280" y="5805360"/>
            <a:ext cx="648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king the most of the World Cup</a:t>
            </a:r>
            <a:endParaRPr b="0" i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719280" cy="1089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8532720" y="5589720"/>
            <a:ext cx="243000" cy="1079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11" name=""/>
          <p:cNvSpPr/>
          <p:nvPr/>
        </p:nvSpPr>
        <p:spPr>
          <a:xfrm>
            <a:off x="179280" y="1484280"/>
            <a:ext cx="864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6920" y="1413000"/>
            <a:ext cx="74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9280" y="260280"/>
            <a:ext cx="8785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"What do you associate with Germany?" 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World War II – 78%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Hitler – 50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9280" y="2997360"/>
            <a:ext cx="87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Name a famous German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Hitler – 68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79280" y="5516640"/>
            <a:ext cx="1017720" cy="11984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1187280" y="5805360"/>
            <a:ext cx="648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king the most of the World Cup</a:t>
            </a:r>
            <a:endParaRPr b="0" i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719280" cy="1089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8532720" y="5589720"/>
            <a:ext cx="243000" cy="1079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19" name=""/>
          <p:cNvSpPr/>
          <p:nvPr/>
        </p:nvSpPr>
        <p:spPr>
          <a:xfrm>
            <a:off x="179280" y="1484280"/>
            <a:ext cx="864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6920" y="1413000"/>
            <a:ext cx="74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042920" y="1052640"/>
            <a:ext cx="6985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Rounded MT Bold"/>
              </a:rPr>
              <a:t>HOW ?</a:t>
            </a:r>
            <a:endParaRPr b="1" lang="en-US" sz="96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Rounded MT Bold"/>
              <a:ea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79280" y="5516640"/>
            <a:ext cx="1017720" cy="11984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1187280" y="5805360"/>
            <a:ext cx="648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king the most of the World Cup</a:t>
            </a:r>
            <a:endParaRPr b="0" i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719280" cy="1089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8532720" y="5589720"/>
            <a:ext cx="243000" cy="1079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26" name=""/>
          <p:cNvSpPr/>
          <p:nvPr/>
        </p:nvSpPr>
        <p:spPr>
          <a:xfrm>
            <a:off x="179280" y="1484280"/>
            <a:ext cx="864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26920" y="1413000"/>
            <a:ext cx="74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89000"/>
            <a:ext cx="87138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Basic information: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Encarta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GB" sz="4000" spc="-1" strike="noStrike" u="sng">
                <a:solidFill>
                  <a:srgbClr val="ffffcc"/>
                </a:solidFill>
                <a:uFillTx/>
                <a:latin typeface="Arial Rounded MT Bold"/>
                <a:hlinkClick r:id="rId4"/>
              </a:rPr>
              <a:t>www.infoplease.com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2347920"/>
            <a:ext cx="878508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Find some photos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GB" sz="4000" spc="-1" strike="noStrike" u="sng">
                <a:solidFill>
                  <a:srgbClr val="ffffcc"/>
                </a:solidFill>
                <a:uFillTx/>
                <a:latin typeface="Arial Rounded MT Bold"/>
                <a:hlinkClick r:id="rId5"/>
              </a:rPr>
              <a:t>www.unep-photo.com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GB" sz="4000" spc="-1" strike="noStrike" u="sng">
                <a:solidFill>
                  <a:srgbClr val="ffffcc"/>
                </a:solidFill>
                <a:uFillTx/>
                <a:latin typeface="Arial Rounded MT Bold"/>
                <a:hlinkClick r:id="rId6"/>
              </a:rPr>
              <a:t>www.german-way.com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450864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Research daily life, school, food…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10:52:29Z</dcterms:created>
  <dc:creator>CSeccombe</dc:creator>
  <dc:description/>
  <dc:language>en-US</dc:language>
  <cp:lastModifiedBy>CSeccombe</cp:lastModifiedBy>
  <dcterms:modified xsi:type="dcterms:W3CDTF">2006-02-27T21:39:14Z</dcterms:modified>
  <cp:revision>25</cp:revision>
  <dc:subject/>
  <dc:title>Slide 1</dc:title>
</cp:coreProperties>
</file>