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A01-A7E9-47C0-BE18-1F4258F8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32B-6664-497D-BE3C-A23E2ECC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4A4-99AE-44DC-AD05-F1807F67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A70-5D2B-425F-9D20-9B5425B0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779B-3492-45A0-9C7C-CB7E7D42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925A-062A-49E9-82B3-DA71214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E3BE-EC59-4783-8F0C-E75A733D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B8F-8289-47CE-983F-8A8B911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FB8B-3573-41F4-B7E3-0737C6E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DF20-3EEA-4AB5-8AC8-6D44836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43B-EAAB-4E39-AF97-BE833B9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C63-31EC-43E0-910F-20F0CB26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1E40-099C-4C86-A46E-095C858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AE92-37DD-49DD-8FF5-4BBC74E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9B5-F814-44E2-9F66-67CDB10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9EDA-72A3-4314-BE3C-E0254473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B6F1-6CA4-4F83-A429-21500D61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9C9-D257-4FF9-B242-7777B7D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7A5-8A9B-4096-9078-B4B30AC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A6A-BACD-43FC-9210-4164A8D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5CC-0BA3-4932-8AF8-5B72FE37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80F-E09D-49E7-BDDD-16E6DF1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0BB-AD30-4968-A32A-3F8370B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E87-A8F6-40BF-9058-810D99C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F8B1-8140-4FAB-BE32-E887110E7F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723F-07FB-442E-967C-57C481CF8F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etwinning.net/" TargetMode="External"/><Relationship Id="rId5" Type="http://schemas.openxmlformats.org/officeDocument/2006/relationships/hyperlink" Target="http://www.epals.com/" TargetMode="External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infoplease.com/" TargetMode="External"/><Relationship Id="rId5" Type="http://schemas.openxmlformats.org/officeDocument/2006/relationships/hyperlink" Target="http://www.unep-photo.com/" TargetMode="External"/><Relationship Id="rId6" Type="http://schemas.openxmlformats.org/officeDocument/2006/relationships/hyperlink" Target="http://www.german-way.com/" TargetMode="External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3049560" cy="30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3348000" y="1341360"/>
            <a:ext cx="5545080" cy="295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mo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cultur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8900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ind out about the play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41300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will another team find different in Germany 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068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ascots – how well do they represent the country.  Do they just conform to stereotypes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189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ake it one step furthe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052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Town-twinning links,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.g. Sunderland and Es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3645000"/>
            <a:ext cx="849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4"/>
              </a:rPr>
              <a:t>www.etwinning.net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4581360"/>
            <a:ext cx="525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5"/>
              </a:rPr>
              <a:t>www.epals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256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LAs and Comenius Assis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enefits for your schoo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484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International School Aw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49228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More knowledgeable, tolerant and understanding pupi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411280" y="1052640"/>
            <a:ext cx="4394160" cy="35114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18900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mel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732720" y="981000"/>
            <a:ext cx="187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ealt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659640" y="2637000"/>
            <a:ext cx="217152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serve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00720" y="4508640"/>
            <a:ext cx="12096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u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40360" y="479736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f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19280" y="422100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ckney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16000" y="2637000"/>
            <a:ext cx="11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42920" y="549360"/>
            <a:ext cx="20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ccentr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3348000" y="2205000"/>
            <a:ext cx="2381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WHY ?</a:t>
            </a:r>
            <a:endParaRPr b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0920" y="10288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htung Surrender - For You Fritz Ze Euro 96 Championship is Over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Daily Mirr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4292640"/>
            <a:ext cx="835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r We Go - Bring On the Krauts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Daily Star)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18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uro 96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2965320"/>
            <a:ext cx="8569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et’s Blitz Fritz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(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6028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We Beat Them In 45 ... Now The Battle of 90</a:t>
            </a:r>
            <a:br>
              <a:rPr sz="4000"/>
            </a:b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(Sun, 1990 World C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6028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"What do you associate with Germany?"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orld War II – 78%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tler – 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2997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Name a famous Germa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itler – 68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2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HOW ?</a:t>
            </a:r>
            <a:endParaRPr b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5516640"/>
            <a:ext cx="1017720" cy="1198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187280" y="5805360"/>
            <a:ext cx="64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king the most of the World Cu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719280" cy="10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532720" y="5589720"/>
            <a:ext cx="243000" cy="107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79280" y="148428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89000"/>
            <a:ext cx="87138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asic information: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carta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4"/>
              </a:rPr>
              <a:t>www.infoplease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347920"/>
            <a:ext cx="8785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Find some photo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5"/>
              </a:rPr>
              <a:t>www.unep-photo.com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Arial Rounded MT Bold"/>
                <a:hlinkClick r:id="rId6"/>
              </a:rPr>
              <a:t>www.german-way.com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508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esearch daily life, school, food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0:52:29Z</dcterms:created>
  <dc:creator>CSeccombe</dc:creator>
  <dc:description/>
  <dc:language>en-US</dc:language>
  <cp:lastModifiedBy>CSeccombe</cp:lastModifiedBy>
  <dcterms:modified xsi:type="dcterms:W3CDTF">2006-02-27T21:39:14Z</dcterms:modified>
  <cp:revision>25</cp:revision>
  <dc:subject/>
  <dc:title>Slide 1</dc:title>
</cp:coreProperties>
</file>