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35.png" ContentType="image/png"/>
  <Override PartName="/ppt/media/image44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33.png" ContentType="image/png"/>
  <Override PartName="/ppt/media/image13.png" ContentType="image/png"/>
  <Override PartName="/ppt/media/image34.png" ContentType="image/png"/>
  <Override PartName="/ppt/media/image41.png" ContentType="image/png"/>
  <Override PartName="/ppt/media/image42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9.png" ContentType="image/png"/>
  <Override PartName="/ppt/media/image22.jpeg" ContentType="image/jpeg"/>
  <Override PartName="/ppt/media/image45.png" ContentType="image/png"/>
  <Override PartName="/ppt/media/image1.jpeg" ContentType="image/jpeg"/>
  <Override PartName="/ppt/media/image10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  <p:sldId id="276" r:id="rId51"/>
    <p:sldId id="277" r:id="rId52"/>
    <p:sldId id="278" r:id="rId53"/>
    <p:sldId id="279" r:id="rId54"/>
    <p:sldId id="280" r:id="rId55"/>
    <p:sldId id="281" r:id="rId56"/>
    <p:sldId id="282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slide" Target="slides/slide21.xml"/><Relationship Id="rId52" Type="http://schemas.openxmlformats.org/officeDocument/2006/relationships/slide" Target="slides/slide22.xml"/><Relationship Id="rId53" Type="http://schemas.openxmlformats.org/officeDocument/2006/relationships/slide" Target="slides/slide23.xml"/><Relationship Id="rId54" Type="http://schemas.openxmlformats.org/officeDocument/2006/relationships/slide" Target="slides/slide24.xml"/><Relationship Id="rId55" Type="http://schemas.openxmlformats.org/officeDocument/2006/relationships/slide" Target="slides/slide25.xml"/><Relationship Id="rId56" Type="http://schemas.openxmlformats.org/officeDocument/2006/relationships/slide" Target="slides/slide26.xml"/><Relationship Id="rId57" Type="http://schemas.openxmlformats.org/officeDocument/2006/relationships/slide" Target="slides/slide27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dt" idx="8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 type="ftr" idx="8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6"/>
          <p:cNvSpPr>
            <a:spLocks noGrp="1"/>
          </p:cNvSpPr>
          <p:nvPr>
            <p:ph type="sldNum" idx="8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40A8-0F09-4FE6-BEFB-57F8312978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Mon drapeau est rouge, jaune et no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4B6C-1057-4D48-9210-6C8DC3FDDE9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Mon drapeau est rouge, jaune, noir et ve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B99E-619E-44B7-8A87-720BD655B36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7902-D028-4D8B-9725-8CF3BE7C03DA}" type="slidenum">
              <a:rPr b="0" lang="es-UY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Mon drapeau a un bla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8220-C611-4FB1-8179-7F4345A4B40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Mon drapeau a une éto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CD64-6FBF-43F8-B92D-D1DFE50E63A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Mon drapeau a cinq éto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133E-A7DE-491C-BDA3-415BD8FC0F9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Mon drapeau a six éto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54F7-EED3-48AF-919D-0D7D40C37F7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Mon drapeau a sept éto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2279-2889-45AF-BC74-97FC71B7872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Mon drapeau a une croi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39A1-126F-475B-8820-8DDC720E80C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Mon drapeau a un ce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B52F-72F4-418A-A092-678825BDEDC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Mon drapeau a trois ban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BEFB-882A-485B-9F14-9847E446FCF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13A4-50DE-4E97-B89A-C06F189EA8F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EFE6-2F99-4D0A-B128-FF162D6E7BA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9BAB-39A2-47D7-9FB5-1941D7A82F0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C’est com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5349-AB20-4A18-BBA5-22B07B4A996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04E1-3C87-4BE7-AA34-6ABE147B4D8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F226-A069-4D32-B7E0-EF7BCC4F21D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A387-B80B-4357-A6B7-B91208681D9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Mon drapeau est rou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98F5-2E39-4EE8-938E-96382D75205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Mon drapeau est rouge et bla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D1B3-4BFD-4AE5-B063-752BE202B9C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Mon drapeau est rouge, blanc et ble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F9ED-E068-454D-8D69-307472A2D02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Mon drapeau est bleu et bla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3886-86AE-4877-A597-E25F8105BC2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Mon drapeau est rouge et ve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5D31-1869-40E6-A784-24AEA9FE2D9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Mon drapeau est rouge, vert et bla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5198-527A-4954-AD00-9BF81AC8DBE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Mon drapeau est rouge et jau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B627-0286-4B3F-A596-99D30EAA41F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46D9-BE75-46AD-AA25-D099B5958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8C30-1C4D-460B-BD1A-AB70DBAF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59F52-1CE0-4F5E-9C55-D6DFF9BB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49C773-2CC2-4F29-8A8C-D747E8AA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668E76-53D8-4575-A256-8A1CFEFB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5FF909-AA2F-455B-B2E4-176FFB22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F88EDB-E659-4698-8897-5BF13EE8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754767-AA90-4ABE-BC74-2DD2E28C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52BBE5-6287-464E-AF34-A8B7D691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ECD01D-279A-42C5-8F20-803711E37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24C755-C471-47A4-B3A9-753098175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5EC8F9-555F-40B7-85C5-D55DC7AB3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7567-8E9B-46D3-B916-8C792E550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5547E6-17D8-46B1-B82C-5AD9001A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F3F466-49B9-4E64-A6E1-36388982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F68C02-6213-4C59-9451-82E692F3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516D6B-D82E-472D-9F96-F5BF5B05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ECC88A-8736-46FE-9A7A-673A3A08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8FF8F9-C3B6-468E-8DA4-E7A17829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C901B6-99A2-4A47-9A6D-4F6035B5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A06248-D604-4AEB-AE9A-731E39A7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2507DF-B2FD-42D0-826E-C9B435B7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5D443E-72B9-4244-AB11-929CBFF89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974F-4296-4C77-8BB4-C6BD754AE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E0221C-5D20-46A0-A338-C4F876CB9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E07742-ABFD-427A-8EF9-843649A44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BEEB0-3DD5-47EE-B10F-A5DEE2FD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4A4BED-1A96-4DEB-A7A6-F07680A0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F60F2B-3102-4AC4-A6DB-D2117B2D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DCC33-BEDE-4D1F-A63C-068C5579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7774DD-F152-41BC-AAAD-8CDECF3F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C3C68-5CE1-4515-A09F-754E4CB9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4D6EC2-0F5B-4DFD-A110-099AA1D8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A20B77-9C30-464C-8ADF-AA2C010F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0FEC0-F459-4F43-9DF1-0B3E95E6E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082578-B351-4B27-9360-1C7D28BE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AB133-06A0-47F8-AFBD-7FC235CD5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EE724-41DE-476F-B164-AE40FBB73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A4DFD7-9FD2-4DE0-9454-582F69D9B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D2DA7B-4531-43CA-8FA9-105FA6B5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F7B84B-4FDF-4FC5-95D1-399979D5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DC9912-4DB2-42F3-B229-6AFAE22FF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E0DB82-B194-4C4B-85FA-AE587A4F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3AA7FA-B9BA-4430-BED4-DB319D05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6FF2C0-CF38-4F5E-B863-729B09A9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18ED-F999-46C4-B8ED-9A575666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384318-86AA-438E-9E27-413CCE37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8743F1-422D-4F06-8EAF-82C335D4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276B2E-C21B-41E3-A019-44485363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3B51B1-D498-441E-B1B5-C8004ABAF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EBCEEE-883D-4028-B5CF-683436E20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43D7FD-E366-4E9D-993B-CE9125038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16F738-1C55-44A7-A417-AC50DF97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2C2E3F-81AC-4493-B053-4AB6FC1F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420E65-8B6D-46DB-8E37-D19913C9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818AD2-9622-4514-911F-F8E2EC5B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CF96-9F1D-4510-A5E7-7D79D441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5E5997-3C2D-4F05-BA94-0E31FC24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A409F2-797C-41BD-A631-F6AC540B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FB927E-D095-45D4-A447-0B90BF9E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7085C9-574F-4124-BA32-B30175CF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CB8390-33FD-4F07-969A-E8E10A3E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DB2F96-F5D4-47D3-9D47-930B254D7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C8E082-7260-4001-A818-44EBE826F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999B04-0EC6-4C10-B235-5395484FC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147157-9A1E-4976-AB1A-C56F5DC5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E3F687-8141-41ED-BEE2-B769C57D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C1A2-7CC0-4070-916C-AA0F7E99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E9D392-5E10-4D80-854F-672C358E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B4B269-B29E-48D9-B0BB-AF6A5F5F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348852-4BDA-45B0-BB69-2D6FABE4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F1D70C-6CAF-4772-9631-41B729C8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B28CF2-4113-41E7-91F2-70EF2DD7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BD1EEF-594E-4CD7-9131-96995E96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FDB301-F058-4873-9C8C-FB4B2BE6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F0097D-E2C2-4A91-AAF8-D421C28B9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3ED05D-D4D3-4208-B20E-D8963C06B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7CFAFC-5653-42E9-AA93-5D36A650B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0E33-261D-41EE-907E-528EB0E6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EE82BC-CD47-44B0-BC8F-99648DD87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C18370-8744-4451-A8B7-DC806C3D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B8C89C-616A-4DB7-88C3-8A0A4524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02B1FC-0B7D-49C4-B3FB-3CCD1E92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7FA2CC-6267-4E01-8548-DDD52E73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FEBE52-0D73-4D3D-8D84-FA35DE65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66CE1F-E1B5-4605-A1FB-F66D8E90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204E62-DE6B-4BD0-AE49-0C732182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4EFDF3-1060-4A5C-A1A4-3BD2A2C8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05ECF7-B9D0-4178-BAF8-B637E853B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18855-A205-400D-9100-54F5BC2E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740C08-C35E-4248-9441-270DE18CE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9BC096-C44A-466B-A592-0DF99310C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A901EA-949F-4854-A545-3EDFBA47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4B7935-BA29-4456-9184-02F889DF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16BB30-DBDA-4471-879E-ADE97360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C8F132-919F-424D-BA59-05DE7F30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5E3606-6374-4BCA-A3F4-D97AF04D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40CB5F-EA6B-4A8C-B207-98FD2F99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91025C-D175-49D8-B854-B8FD1301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425035-BE9F-4310-8933-02061F87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BD2D-3FF7-4A1A-83EF-6CB14058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9CC30F-6AE4-4477-9ECF-27913BA0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BF1853-10B5-48FF-8D55-709737A09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E9C6E9-C813-4D05-929E-EFD83E6CE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E31043-D9AA-44AA-BAD3-BB37317E1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6F6E5D-AE1A-4002-8131-F7DB1F26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86D0F1-A1B3-4B40-95B0-F58DF085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A01EF7-8517-4D9F-9CA2-B69F0E61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1E2FA4-2088-4056-9495-19582BBB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724287-A45F-4F11-BE1B-A368DB40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221A01-F956-471A-A414-A1C8CED8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8687-374C-4AAB-9DD0-CDADA0EA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7813-652C-4E53-A37F-A2A65D15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61A1BB-893E-48CF-9D07-0E29DB8F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438611-AD19-4939-8CDB-5502A22D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6A6C56-B806-4D15-A0E6-7BA5CBA0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A1B57C-F01D-497E-B228-C64BA3E24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BE934E-B858-4175-87A6-2A881D6AE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E9EC16-52EA-45C3-B6E7-FE1ED6360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622E53-1403-4632-96C3-6B0D604D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806DE5-081C-4287-94D9-6322A130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8E62FE-8F92-4CD4-BEF5-B825B17C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B84B93-4EE0-4A42-9261-639883CB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4373B-A582-4959-B644-1D505D7E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7AF0D1-F430-45F0-A8C7-CF3C7D22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681F52-4A83-4E9B-9F40-73A49DB6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271234-4112-48A8-AF70-979BBEB5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6FB81C-7D5A-4EC2-B1A2-50C6DEE7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0C9A3C-DFDD-4433-ADDC-B320FA46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6C82B2-468C-471A-B3C4-8966BE7C3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BB29AC-406A-4269-8197-93917261A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22F961-58F5-4943-B31E-5A08065C8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422327-F1C4-49C4-8F10-F23AF81A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998181-4790-49BE-A914-C55305AB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B843-1BEB-4C14-A45D-148887E1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548647-09A1-4F11-809D-833B74B7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8FEBE6-57D3-48DA-8185-02EC6ACF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07F11E-2DC1-408F-9E03-65964BFE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68AA98-7912-4CFB-B434-D945448C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41BB81-AC58-4BE2-A4B6-F7BFAACF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44269B-CEA6-4133-9966-A343EDC3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2DA506-6054-4A3F-90B8-317C7FAD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912144-7D38-456F-B8DB-B2DC2D292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3F0AB4-7756-4EBA-9171-25ECE96AB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3B77D8-238B-4185-8468-0B8C36EB6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B0BD-8511-4364-AC86-7EB6992A6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E0C80A-D7E1-4620-891C-47BDC3FE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0F813C-D50D-498A-A614-B122C40D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3C04F6-C30B-435D-8597-2C7D15FD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F71338-476B-4739-909D-4BAB986E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E5D122-C77A-456F-A6BD-8BD7DFB9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1F704B-3A37-4811-88DB-F1AAE36D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3B9A92-D7DC-4E67-A1A0-48174001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CDBC5D-6671-4FF5-8D11-4C1B37A5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835CEC-49E2-4A51-A471-6052F09B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86F863-7B16-41B9-8237-19DCB8318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2BD3B-C72C-4AFD-BDA2-EFB1EEDE5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E34583-3B02-4A25-BBCD-91B5DD44A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7A32A4-7FCC-444B-A7FC-0E83057E4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4F99CE-9C56-4330-9434-073DAB3C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EC16BC-D67F-4C91-AC3F-7AF2A184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62CE80-AE40-4F3B-B2F6-9B89EC7B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5C43AF-267C-4AEF-A486-57539D03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A41A2A-F0A6-4BD2-9FCB-06D9A787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14982F-9E46-46AB-82F9-DF2DD446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BF7D5B-47BE-4181-9DEB-16B5B60B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BE87DA-9F46-4838-BAD0-2C44C5BF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9CD25-2F5B-4CF4-8C57-D7BFF09D9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1D1040-2B63-498E-993F-ABE1848F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FE183E-BB7A-4413-A282-28D8E7A83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57B28C-476F-484F-8343-271D8D5C4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AC717B-1E93-4298-8A60-D61859344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9C94C8-374C-4963-BE51-9A87D597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B01B21-D3C5-4467-BBB5-7666323A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14BA5A-E7F5-40D3-8546-00589417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416875-50FB-461C-9DE8-44FA33E2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9C6D4E-13FF-40C4-9CC0-BF801B93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13A891-548D-4307-A1AE-C2295D3D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D5F58-CBFC-4B8D-BD29-3208AE7B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EA823A-72A7-473F-B745-1939144B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CCA118-FB31-4646-A0E5-2A3AFC09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B3C5FA-4160-4527-8D33-3B475396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4E399F-494D-425C-B558-044564194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589FF9-3CED-4C3C-ABDB-D34F73D68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5B671B-29F3-4F9B-BC05-28FF93849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189150-F410-4253-9C97-466A4D59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93BA5C-8DDD-4461-A79A-33F77D8A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85FD83-16D1-4413-9685-4D03BE31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7A5ABD-BAAE-42CB-934F-BAD40B3A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F4622-5B24-40BC-9874-FE4C8B5B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241B5B-151C-4F02-AF60-C22E5262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65F0B1-8C3C-4F0D-8868-715D2D03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F2A1AD-ACDD-4254-AD74-0E5EC810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0E5E03-F5DB-4AAD-8D60-E5DE15F3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66BC34-2E41-4CE1-AFCD-412DDC61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659187-3307-4809-B419-644F60A4E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C6ED86-BC79-428A-9B89-A82E8EA99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47EB58-D497-4462-AD8C-055D59213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9C25DB6-0BAC-43CD-B9EA-14066607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D10AEB-172C-43F8-8512-C8437F6C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0086F-C798-42AD-BFBE-235734580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CB6828-6410-456D-8140-47386AB5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BF5DBB-E8C5-4157-8AD9-69E8C2B4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B4311DB-F8EC-4861-9F90-341FA652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95B081-353E-4361-A029-84611C0F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09EA04F-FD31-4156-908E-B5F6724E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140E4B-9CCC-4DA9-A2D9-F3A21284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BEF3402-6E8B-4080-B9CF-A6FD5F9F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5E2664D-44E1-46A4-AA13-01F4D899D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2F85B8-0D48-406C-869E-7C9006406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66BF7E0-DE15-4315-9A2D-494D5DFB2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52956-F815-4346-8EBD-7E9D7116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8832CFC-DB04-4019-89B5-F4B9C0FA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2525285-CA21-43B6-B8E4-1C936356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B9024B0-CC43-4F7B-B047-9D26FBC4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13512B0-B627-421C-ABDB-627ACDC3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990FEA4-AC66-49AD-8DF0-21DF9716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AA1D7C6-F989-455B-AD37-A43AF16F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2349EDA-D2DD-40DD-891F-8B478394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84E1D1A-50F3-4D68-8372-E28C7BC6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C790972-D7CC-416A-90CB-4EEDEC59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3CA46E0-2F8E-4D74-8709-96133FB94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A3F5-B2C0-42B4-8CC6-96980F117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8DCDC-F75B-49F2-AF5D-21515456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9D64C7D-C7A5-4C6B-A090-7CA5E2A14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EE08542-01EE-496D-BE2C-720558607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983FE3F-4864-4E73-84D0-1318D510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5522B42-101B-41BB-A03C-18022DCC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6B8312B-59BC-4982-98FF-627BB5DC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2DF4D72-D81D-4B28-A5F8-23EDF79B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1B9E1F6-2ADB-43FC-9274-EBFCD907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89C3D41-1179-4470-9E5A-A220398D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AEB0AE4-E591-42AF-9A98-6EB6E686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6F411DB-4708-4AEE-9906-17742B47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5D6F9-56D9-4FFE-AB2F-98791563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0DD33FD-43CB-4733-8602-126D3EEF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912A485-BB17-43CA-AC4B-87EFFA9D9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BA88613-3BC6-4577-9CCA-E6BBA7D71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5E48C97-2573-42F1-9F4B-D983A46BF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3CA674E-C00E-4F57-8EAB-37D71ACF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6F58AB3-79AE-41FD-BE5E-2BB997DC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8C12F37-CF4B-421E-9192-FE211938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C618B0F-40F1-430F-A433-3DF9BE6E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C602506-7C9B-41C6-8CDE-5A221AFD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3ADB22A-8A27-4CA2-AD9C-A735ADFF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78E28-97F0-4A59-A059-1ADC2CE1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61DCE2D-8B25-453A-893B-0EF39D46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D84E6E6-D544-486C-A7D6-EAA9F4F6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8C0D2F5-AB0A-41EE-AD85-1D9FD85D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6545183-CA99-40E4-B35C-390E60009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C37D359-B8AC-4AD3-BF47-58237EF29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9BE6704-3D75-4A35-A7AA-806ED3D84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850C4F9-EF76-4211-9392-55E90513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BDF5DD7-D165-42B9-B35C-7D9FB8AB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88120A3-B518-49D2-84A5-D1120DED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88EAA0B-82EC-4D8B-8427-2F94CB2D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4DF9A-C7CD-4060-809E-C53219DF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1FF1115-6344-4EDD-8C5F-6159BCF1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CEFF0DB-7A84-4B8B-B74D-C25EF795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12F61CA-EC47-4936-A19B-881683C5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2F3C129-D394-44F6-8F28-74372FCD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E91AA8F-4F80-45FB-BD63-AECFA003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EABEBA6-F61D-47C6-AB26-9809CC0FE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54E2982-22B4-4F87-AE29-773A2BF4B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09754-478B-4907-B99C-B08E975C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97244-EA0E-4190-8126-E649C9F30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0D5E5-D26C-495A-A679-29BAF7C4F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E09BD-CF57-42B3-94F3-F80F24A79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FFA9A-5BC9-49B4-827E-0843FD2A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99732-6C88-43E9-88A2-58697102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64A8-6C6A-425D-8CF3-4CD1DD8A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B0F6D-1339-467E-AAB0-4880CDFF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60459-D356-49DB-B618-0B5C7FD4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296E0-3776-41BA-9D33-4A4613A3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11FC6-D599-4D28-BDA3-BFD2D7DF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6AFF8-187B-4E5E-82B3-1E60A730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A21BB-25F4-4D0A-ACF1-CA995989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A53C7-51DC-4D09-958E-B659C237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E4F5F-ECF5-4D42-8CB1-A99D0AFFC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52401-B3AE-48C1-8E43-79C6A0D3B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CCC5B-C619-42FD-BEE8-E5F33DD72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44DF-99BF-4FDA-8ADA-61C7694C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7E9C2-B02B-4852-B432-91EA85F9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046A0-77F0-4173-AB4C-AC8FB41D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08882-FBA6-4333-B358-63FEFFBA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EC067-D607-4E6B-A6DD-DD64BB2E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3C74E-B22B-407E-B2EE-A594AB3A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F7F99-1C38-4639-8179-E264797D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99BCA-50E3-4D2D-80E8-F4D9C3C7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EA75F-0C62-4207-9EC2-EF5481C3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AF314-8550-4D17-A80C-8427A03B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8FB5B-132B-4069-AE23-99C750230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BF9A-D777-4E33-A3F3-CA829D02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707AF-44F6-4902-AC7C-C5A04F905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638F3-BB73-4976-8D86-A73F021A2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988B6-83DA-40BD-A311-0AB0052F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52E78-C48C-4195-A1DE-BA279E71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0003B-0667-4394-BE01-ACE98572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7281D-4513-496D-A91C-1D8AC5A6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267CE-614E-4064-831C-7303EB4E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D122A-DA9E-45E4-87B9-A71CB49D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6BCB4-8E21-4AD3-943E-CEE29DF8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F5D83-7DDD-4A9F-81B3-EFF8E25F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E5DE-088F-444E-81B1-991A3EED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44CA7-7DF6-4CDF-9260-B2B2D154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B8609-48A7-4C0A-91E4-2017E436F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995AF-EE13-46B7-B8C8-E9643C12E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6A986-F204-4B66-A70E-8C65E2B63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D9374-2F24-422E-9126-E4DE1867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E7A83-4122-4155-8310-A9F47697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7C3EF-272B-4C52-8231-36B46D8E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0F9AB-538A-4336-9E42-DC8B3627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4B160-1B73-42A6-81D9-F1D7EF3D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B29BF-63D5-4FD0-840D-619DA586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F61D-7A32-4781-8102-36BDF046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68E66-9D9B-4437-8AD4-BCF02CA0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85DA9-9B4F-4075-9C31-D3FBFBBE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5DAC2-3CA2-45DB-B18C-43B77D55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4C2AA-D45C-4C7D-AFA1-3287B1E5D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4C010-5065-4838-BF40-EB7465989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3E273-F3E0-4D27-AC8F-E60995668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F3ED5-2298-40E1-8AD5-E9F16BEF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565F8-0B5F-4C3E-BE00-C786C4CB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FF01C-8CA0-45DF-81C8-C9DB9A3E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ED3B8-A741-4066-AB64-9F3E9D815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9C81-78B3-49D4-AD46-1D1930FC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B8890-4F56-4454-A34C-F27D5A3B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D1425-C9AD-4E78-876D-85EC0D91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A0C44-5EDA-40C7-B88F-31F0EE9B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B7C0C-01E1-4DAC-8F28-C4487D6F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A8798-34E4-4C0A-ADF4-ECA35359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7EF33-C3F4-4C0C-B96F-087A97AD7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C1122-A307-48CC-8046-880ECBA1C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CD9C5C-C4A2-4F81-84C1-E853DF835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5D35F3-FB52-47BA-9505-4830A2B4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58787B-A4E4-499E-9839-9C2847A6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3F32-5E7B-4A92-9A37-2B00B4B9CDA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7BA0-26B3-4239-8B97-0CE125C519E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E71B-C131-4E5C-B523-14D155EF77B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32DB-9047-46AA-97B9-92A85A12C9B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81EB-E0A3-4927-86EB-ED69FBBCC9E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A865-1D5A-4893-8108-CF277F86462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4A90-9F34-48F2-A72E-3384AC2C6AC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B78C-748D-4FED-B966-A2C7AFDB85D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EA55-778A-4194-AE91-155A9DCA442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2018-7E8D-4CC1-8BCD-77FD368E11B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BD21-9B29-4DFE-B924-BDE8E5185CD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AD6B-3C39-4DA1-8A63-8F520047623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2756-1D8A-4200-B69C-C942E3A0C56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FBEA-2316-43D6-BDF2-D627D591B5C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076A-1C32-4109-8312-0D20B04D824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09DC-09AB-4AFE-ADC7-824FDCCA5A9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2718-F13F-4971-950C-ABB76950EC7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3CCB-D76B-45ED-8FA2-9470376E422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E11F-6FE3-4225-AAA5-02D6646E06E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93D6-0C8A-4F75-B1F6-21025EF9CA5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3B1D-D33A-4D3C-91E8-61FB1B0E981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FE19-CAFA-4D84-9DB3-3B32CD8A7C3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A7D17-4C21-4623-B223-68875FD7984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C92F-8C10-45F1-B9C1-E540FA42EF5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9DB9-E8DA-4E89-9971-106D16B51A1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07FA-DA49-4757-93A1-533BA3CF7FF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9F4D-67E3-45CD-AECA-B9BB10B25FA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4B92-4267-4999-83DD-E4FF200F04C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slideLayout" Target="../slideLayouts/slideLayout3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4.jpe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33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6.png"/><Relationship Id="rId3" Type="http://schemas.openxmlformats.org/officeDocument/2006/relationships/image" Target="../media/image11.png"/><Relationship Id="rId4" Type="http://schemas.openxmlformats.org/officeDocument/2006/relationships/image" Target="../media/image4.jpe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45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69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8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image" Target="../media/image7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93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205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9.png"/><Relationship Id="rId3" Type="http://schemas.openxmlformats.org/officeDocument/2006/relationships/image" Target="../media/image33.png"/><Relationship Id="rId4" Type="http://schemas.openxmlformats.org/officeDocument/2006/relationships/image" Target="../media/image23.png"/><Relationship Id="rId5" Type="http://schemas.openxmlformats.org/officeDocument/2006/relationships/image" Target="../media/image34.png"/><Relationship Id="rId6" Type="http://schemas.openxmlformats.org/officeDocument/2006/relationships/image" Target="../media/image29.png"/><Relationship Id="rId7" Type="http://schemas.openxmlformats.org/officeDocument/2006/relationships/image" Target="../media/image35.png"/><Relationship Id="rId8" Type="http://schemas.openxmlformats.org/officeDocument/2006/relationships/image" Target="../media/image10.png"/><Relationship Id="rId9" Type="http://schemas.openxmlformats.org/officeDocument/2006/relationships/image" Target="../media/image24.png"/><Relationship Id="rId10" Type="http://schemas.openxmlformats.org/officeDocument/2006/relationships/image" Target="../media/image26.png"/><Relationship Id="rId11" Type="http://schemas.openxmlformats.org/officeDocument/2006/relationships/image" Target="../media/image16.png"/><Relationship Id="rId12" Type="http://schemas.openxmlformats.org/officeDocument/2006/relationships/image" Target="../media/image20.png"/><Relationship Id="rId13" Type="http://schemas.openxmlformats.org/officeDocument/2006/relationships/image" Target="../media/image4.jpeg"/><Relationship Id="rId14" Type="http://schemas.openxmlformats.org/officeDocument/2006/relationships/image" Target="../media/image25.png"/><Relationship Id="rId15" Type="http://schemas.openxmlformats.org/officeDocument/2006/relationships/image" Target="../media/image36.jpeg"/><Relationship Id="rId16" Type="http://schemas.openxmlformats.org/officeDocument/2006/relationships/image" Target="../media/image37.png"/><Relationship Id="rId17" Type="http://schemas.openxmlformats.org/officeDocument/2006/relationships/image" Target="../media/image38.png"/><Relationship Id="rId18" Type="http://schemas.openxmlformats.org/officeDocument/2006/relationships/image" Target="../media/image39.jpeg"/><Relationship Id="rId19" Type="http://schemas.openxmlformats.org/officeDocument/2006/relationships/image" Target="../media/image13.png"/><Relationship Id="rId20" Type="http://schemas.openxmlformats.org/officeDocument/2006/relationships/slideLayout" Target="../slideLayouts/slideLayout217.xml"/><Relationship Id="rId21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229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24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25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26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277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289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4.jpe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4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Text Box 4"/>
          <p:cNvSpPr/>
          <p:nvPr/>
        </p:nvSpPr>
        <p:spPr>
          <a:xfrm>
            <a:off x="826920" y="1413000"/>
            <a:ext cx="7561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ffffff"/>
                </a:solidFill>
                <a:latin typeface="Comic Sans MS"/>
              </a:rPr>
              <a:t>Français</a:t>
            </a:r>
            <a:endParaRPr b="0" lang="en-US" sz="1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8" name="TextBox 1"/>
          <p:cNvSpPr/>
          <p:nvPr/>
        </p:nvSpPr>
        <p:spPr>
          <a:xfrm>
            <a:off x="2484360" y="6524640"/>
            <a:ext cx="655164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©Light Bulb Languages 2014 CS </a:t>
            </a:r>
            <a:r>
              <a:rPr b="0" lang="en-GB" sz="800" spc="-1" strike="noStrike" u="sng">
                <a:solidFill>
                  <a:srgbClr val="98eee3"/>
                </a:solidFill>
                <a:uFillTx/>
                <a:latin typeface="Arial Rounded MT Bold"/>
                <a:hlinkClick r:id="rId1"/>
              </a:rPr>
              <a:t>http://www.lightbulblanguages.co.uk</a:t>
            </a: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97" name="Picture 4" descr="delarge[1]"/>
          <p:cNvPicPr/>
          <p:nvPr/>
        </p:nvPicPr>
        <p:blipFill>
          <a:blip r:embed="rId1"/>
          <a:stretch/>
        </p:blipFill>
        <p:spPr>
          <a:xfrm>
            <a:off x="2414520" y="647640"/>
            <a:ext cx="4314960" cy="2664000"/>
          </a:xfrm>
          <a:prstGeom prst="rect">
            <a:avLst/>
          </a:prstGeom>
          <a:ln w="9360">
            <a:solidFill>
              <a:srgbClr val="ffffd9"/>
            </a:solidFill>
            <a:miter/>
          </a:ln>
        </p:spPr>
      </p:pic>
      <p:pic>
        <p:nvPicPr>
          <p:cNvPr id="1198" name="Picture 10" descr="http://www.queenofhoxton.com/wp-content/uploads/2014/03/worldcup.jpg"/>
          <p:cNvPicPr/>
          <p:nvPr/>
        </p:nvPicPr>
        <p:blipFill>
          <a:blip r:embed="rId2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1199" name="Picture 5" descr="be"/>
          <p:cNvPicPr/>
          <p:nvPr/>
        </p:nvPicPr>
        <p:blipFill>
          <a:blip r:embed="rId3"/>
          <a:stretch/>
        </p:blipFill>
        <p:spPr>
          <a:xfrm>
            <a:off x="3059280" y="3789360"/>
            <a:ext cx="3241440" cy="2766960"/>
          </a:xfrm>
          <a:prstGeom prst="rect">
            <a:avLst/>
          </a:prstGeom>
          <a:ln w="9360">
            <a:solidFill>
              <a:srgbClr val="fffff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01" name="Picture 5" descr="ghlarge[1]"/>
          <p:cNvPicPr/>
          <p:nvPr/>
        </p:nvPicPr>
        <p:blipFill>
          <a:blip r:embed="rId1"/>
          <a:stretch/>
        </p:blipFill>
        <p:spPr>
          <a:xfrm>
            <a:off x="1692360" y="1557360"/>
            <a:ext cx="6121440" cy="4086360"/>
          </a:xfrm>
          <a:prstGeom prst="rect">
            <a:avLst/>
          </a:prstGeom>
          <a:ln w="0">
            <a:noFill/>
          </a:ln>
        </p:spPr>
      </p:pic>
      <p:pic>
        <p:nvPicPr>
          <p:cNvPr id="1202" name="Picture 10" descr="http://www.queenofhoxton.com/wp-content/uploads/2014/03/worldcup.jpg"/>
          <p:cNvPicPr/>
          <p:nvPr/>
        </p:nvPicPr>
        <p:blipFill>
          <a:blip r:embed="rId2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Text Box 43"/>
          <p:cNvSpPr/>
          <p:nvPr/>
        </p:nvSpPr>
        <p:spPr>
          <a:xfrm>
            <a:off x="179280" y="498600"/>
            <a:ext cx="2303640" cy="58618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roug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ffff"/>
                </a:solidFill>
                <a:latin typeface="Comic Sans MS"/>
              </a:rPr>
              <a:t>bleu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jaun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00"/>
                </a:solidFill>
                <a:latin typeface="Comic Sans MS"/>
              </a:rPr>
              <a:t>ver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ccfff"/>
                </a:solidFill>
                <a:latin typeface="Comic Sans MS"/>
              </a:rPr>
              <a:t>blanc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noir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4" name="Text Box 44"/>
          <p:cNvSpPr/>
          <p:nvPr/>
        </p:nvSpPr>
        <p:spPr>
          <a:xfrm>
            <a:off x="2627280" y="476280"/>
            <a:ext cx="6337440" cy="78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ccfff"/>
                </a:solidFill>
                <a:latin typeface="Comic Sans MS"/>
              </a:rPr>
              <a:t>Mon drapeau est 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rouge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ccfff"/>
                </a:solidFill>
                <a:latin typeface="Comic Sans MS"/>
              </a:rPr>
              <a:t>Mon drapeau est </a:t>
            </a:r>
            <a:r>
              <a:rPr b="0" lang="en-GB" sz="4400" spc="-1" strike="noStrike">
                <a:solidFill>
                  <a:srgbClr val="66ffff"/>
                </a:solidFill>
                <a:latin typeface="Comic Sans MS"/>
              </a:rPr>
              <a:t>bleu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ccfff"/>
                </a:solidFill>
                <a:latin typeface="Comic Sans MS"/>
              </a:rPr>
              <a:t>Mon drapeau est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jaune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ccfff"/>
                </a:solidFill>
                <a:latin typeface="Comic Sans MS"/>
              </a:rPr>
              <a:t>Mon drapeau est </a:t>
            </a:r>
            <a:r>
              <a:rPr b="0" lang="en-GB" sz="4400" spc="-1" strike="noStrike">
                <a:solidFill>
                  <a:srgbClr val="00ff00"/>
                </a:solidFill>
                <a:latin typeface="Comic Sans MS"/>
              </a:rPr>
              <a:t>vert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ccfff"/>
                </a:solidFill>
                <a:latin typeface="Comic Sans MS"/>
              </a:rPr>
              <a:t>Mon drapeau est 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blanc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ccfff"/>
                </a:solidFill>
                <a:latin typeface="Comic Sans MS"/>
              </a:rPr>
              <a:t>Mon drapeau est </a:t>
            </a:r>
            <a:r>
              <a:rPr b="0" lang="en-GB" sz="4400" spc="-1" strike="noStrike">
                <a:solidFill>
                  <a:srgbClr val="191919"/>
                </a:solidFill>
                <a:latin typeface="Comic Sans MS"/>
              </a:rPr>
              <a:t>noir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Rectangle 2"/>
          <p:cNvSpPr/>
          <p:nvPr/>
        </p:nvSpPr>
        <p:spPr>
          <a:xfrm>
            <a:off x="-25560" y="-648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06" name="Picture 4" descr="eslarge[1]"/>
          <p:cNvPicPr/>
          <p:nvPr/>
        </p:nvPicPr>
        <p:blipFill>
          <a:blip r:embed="rId1"/>
          <a:stretch/>
        </p:blipFill>
        <p:spPr>
          <a:xfrm>
            <a:off x="2533680" y="333360"/>
            <a:ext cx="3046320" cy="2016000"/>
          </a:xfrm>
          <a:prstGeom prst="rect">
            <a:avLst/>
          </a:prstGeom>
          <a:ln w="0">
            <a:noFill/>
          </a:ln>
        </p:spPr>
      </p:pic>
      <p:pic>
        <p:nvPicPr>
          <p:cNvPr id="1207" name="Picture 10" descr="http://www.queenofhoxton.com/wp-content/uploads/2014/03/worldcup.jpg"/>
          <p:cNvPicPr/>
          <p:nvPr/>
        </p:nvPicPr>
        <p:blipFill>
          <a:blip r:embed="rId2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8" descr="1200px-Flag_of_Croatia"/>
          <p:cNvPicPr/>
          <p:nvPr/>
        </p:nvPicPr>
        <p:blipFill>
          <a:blip r:embed="rId3"/>
          <a:stretch/>
        </p:blipFill>
        <p:spPr>
          <a:xfrm>
            <a:off x="379440" y="2933640"/>
            <a:ext cx="3151080" cy="15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09" name="Picture 9" descr="eclarge"/>
          <p:cNvPicPr/>
          <p:nvPr/>
        </p:nvPicPr>
        <p:blipFill>
          <a:blip r:embed="rId4"/>
          <a:stretch/>
        </p:blipFill>
        <p:spPr>
          <a:xfrm>
            <a:off x="6045120" y="2368440"/>
            <a:ext cx="2889360" cy="192420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10" descr="ptlarge[1]"/>
          <p:cNvPicPr/>
          <p:nvPr/>
        </p:nvPicPr>
        <p:blipFill>
          <a:blip r:embed="rId5"/>
          <a:stretch/>
        </p:blipFill>
        <p:spPr>
          <a:xfrm>
            <a:off x="3132000" y="4735440"/>
            <a:ext cx="293076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12" name="Picture 5" descr="cmlarge[1]"/>
          <p:cNvPicPr/>
          <p:nvPr/>
        </p:nvPicPr>
        <p:blipFill>
          <a:blip r:embed="rId1"/>
          <a:stretch/>
        </p:blipFill>
        <p:spPr>
          <a:xfrm>
            <a:off x="468360" y="2349360"/>
            <a:ext cx="2951280" cy="1973520"/>
          </a:xfrm>
          <a:prstGeom prst="rect">
            <a:avLst/>
          </a:prstGeom>
          <a:ln w="0">
            <a:noFill/>
          </a:ln>
        </p:spPr>
      </p:pic>
      <p:pic>
        <p:nvPicPr>
          <p:cNvPr id="1213" name="Picture 6" descr="ghlarge[1]"/>
          <p:cNvPicPr/>
          <p:nvPr/>
        </p:nvPicPr>
        <p:blipFill>
          <a:blip r:embed="rId2"/>
          <a:stretch/>
        </p:blipFill>
        <p:spPr>
          <a:xfrm>
            <a:off x="5724360" y="2708280"/>
            <a:ext cx="3024360" cy="2019240"/>
          </a:xfrm>
          <a:prstGeom prst="rect">
            <a:avLst/>
          </a:prstGeom>
          <a:ln w="0">
            <a:noFill/>
          </a:ln>
        </p:spPr>
      </p:pic>
      <p:pic>
        <p:nvPicPr>
          <p:cNvPr id="1214" name="Picture 7" descr="chilelg[1]"/>
          <p:cNvPicPr/>
          <p:nvPr/>
        </p:nvPicPr>
        <p:blipFill>
          <a:blip r:embed="rId3"/>
          <a:stretch/>
        </p:blipFill>
        <p:spPr>
          <a:xfrm>
            <a:off x="2195640" y="4724280"/>
            <a:ext cx="2808000" cy="1857600"/>
          </a:xfrm>
          <a:prstGeom prst="rect">
            <a:avLst/>
          </a:prstGeom>
          <a:ln w="0">
            <a:noFill/>
          </a:ln>
        </p:spPr>
      </p:pic>
      <p:pic>
        <p:nvPicPr>
          <p:cNvPr id="1215" name="Picture 10" descr="http://www.queenofhoxton.com/wp-content/uploads/2014/03/worldcup.jpg"/>
          <p:cNvPicPr/>
          <p:nvPr/>
        </p:nvPicPr>
        <p:blipFill>
          <a:blip r:embed="rId4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1216" name="Picture 4" descr="dzlarge[1]"/>
          <p:cNvPicPr/>
          <p:nvPr/>
        </p:nvPicPr>
        <p:blipFill>
          <a:blip r:embed="rId5"/>
          <a:stretch/>
        </p:blipFill>
        <p:spPr>
          <a:xfrm>
            <a:off x="3564000" y="154080"/>
            <a:ext cx="309708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18" name="Picture 4" descr="hnlarge[1]"/>
          <p:cNvPicPr/>
          <p:nvPr/>
        </p:nvPicPr>
        <p:blipFill>
          <a:blip r:embed="rId1"/>
          <a:stretch/>
        </p:blipFill>
        <p:spPr>
          <a:xfrm>
            <a:off x="1332000" y="1628640"/>
            <a:ext cx="6553080" cy="3273480"/>
          </a:xfrm>
          <a:prstGeom prst="rect">
            <a:avLst/>
          </a:prstGeom>
          <a:ln w="0">
            <a:noFill/>
          </a:ln>
        </p:spPr>
      </p:pic>
      <p:pic>
        <p:nvPicPr>
          <p:cNvPr id="1219" name="Picture 10" descr="http://www.queenofhoxton.com/wp-content/uploads/2014/03/worldcup.jpg"/>
          <p:cNvPicPr/>
          <p:nvPr/>
        </p:nvPicPr>
        <p:blipFill>
          <a:blip r:embed="rId2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21" name="Picture 5" descr="aularge[1]"/>
          <p:cNvPicPr/>
          <p:nvPr/>
        </p:nvPicPr>
        <p:blipFill>
          <a:blip r:embed="rId1"/>
          <a:stretch/>
        </p:blipFill>
        <p:spPr>
          <a:xfrm>
            <a:off x="1332000" y="1773360"/>
            <a:ext cx="6553080" cy="3287520"/>
          </a:xfrm>
          <a:prstGeom prst="rect">
            <a:avLst/>
          </a:prstGeom>
          <a:ln w="0">
            <a:noFill/>
          </a:ln>
        </p:spPr>
      </p:pic>
      <p:pic>
        <p:nvPicPr>
          <p:cNvPr id="1222" name="Picture 10" descr="http://www.queenofhoxton.com/wp-content/uploads/2014/03/worldcup.jpg"/>
          <p:cNvPicPr/>
          <p:nvPr/>
        </p:nvPicPr>
        <p:blipFill>
          <a:blip r:embed="rId2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24" name="Picture 10" descr="http://www.queenofhoxton.com/wp-content/uploads/2014/03/worldcup.jpg"/>
          <p:cNvPicPr/>
          <p:nvPr/>
        </p:nvPicPr>
        <p:blipFill>
          <a:blip r:embed="rId1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1225" name="Picture 5" descr="ba"/>
          <p:cNvPicPr/>
          <p:nvPr/>
        </p:nvPicPr>
        <p:blipFill>
          <a:blip r:embed="rId2"/>
          <a:stretch/>
        </p:blipFill>
        <p:spPr>
          <a:xfrm>
            <a:off x="755640" y="1773360"/>
            <a:ext cx="7632720" cy="381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27" name="Picture 5" descr="england"/>
          <p:cNvPicPr/>
          <p:nvPr/>
        </p:nvPicPr>
        <p:blipFill>
          <a:blip r:embed="rId1"/>
          <a:stretch/>
        </p:blipFill>
        <p:spPr>
          <a:xfrm>
            <a:off x="755640" y="3645000"/>
            <a:ext cx="4105440" cy="2462040"/>
          </a:xfrm>
          <a:prstGeom prst="rect">
            <a:avLst/>
          </a:prstGeom>
          <a:ln w="0">
            <a:noFill/>
          </a:ln>
        </p:spPr>
      </p:pic>
      <p:pic>
        <p:nvPicPr>
          <p:cNvPr id="1228" name="Picture 6" descr="grlarge[1]"/>
          <p:cNvPicPr/>
          <p:nvPr/>
        </p:nvPicPr>
        <p:blipFill>
          <a:blip r:embed="rId2"/>
          <a:stretch/>
        </p:blipFill>
        <p:spPr>
          <a:xfrm>
            <a:off x="5437080" y="1989000"/>
            <a:ext cx="3527640" cy="2343240"/>
          </a:xfrm>
          <a:prstGeom prst="rect">
            <a:avLst/>
          </a:prstGeom>
          <a:ln w="0">
            <a:noFill/>
          </a:ln>
        </p:spPr>
      </p:pic>
      <p:pic>
        <p:nvPicPr>
          <p:cNvPr id="1229" name="Picture 7" descr="chlarge[1]"/>
          <p:cNvPicPr/>
          <p:nvPr/>
        </p:nvPicPr>
        <p:blipFill>
          <a:blip r:embed="rId3"/>
          <a:stretch/>
        </p:blipFill>
        <p:spPr>
          <a:xfrm>
            <a:off x="2340000" y="549360"/>
            <a:ext cx="2522520" cy="2519280"/>
          </a:xfrm>
          <a:prstGeom prst="rect">
            <a:avLst/>
          </a:prstGeom>
          <a:ln w="0">
            <a:noFill/>
          </a:ln>
        </p:spPr>
      </p:pic>
      <p:pic>
        <p:nvPicPr>
          <p:cNvPr id="1230" name="Picture 10" descr="http://www.queenofhoxton.com/wp-content/uploads/2014/03/worldcup.jpg"/>
          <p:cNvPicPr/>
          <p:nvPr/>
        </p:nvPicPr>
        <p:blipFill>
          <a:blip r:embed="rId4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32" name="Picture 5" descr="jplarge[1]"/>
          <p:cNvPicPr/>
          <p:nvPr/>
        </p:nvPicPr>
        <p:blipFill>
          <a:blip r:embed="rId1"/>
          <a:stretch/>
        </p:blipFill>
        <p:spPr>
          <a:xfrm>
            <a:off x="1547640" y="1652760"/>
            <a:ext cx="3024360" cy="2020680"/>
          </a:xfrm>
          <a:prstGeom prst="rect">
            <a:avLst/>
          </a:prstGeom>
          <a:ln w="0">
            <a:noFill/>
          </a:ln>
        </p:spPr>
      </p:pic>
      <p:pic>
        <p:nvPicPr>
          <p:cNvPr id="1233" name="Picture 6" descr="brlarge[1]"/>
          <p:cNvPicPr/>
          <p:nvPr/>
        </p:nvPicPr>
        <p:blipFill>
          <a:blip r:embed="rId2"/>
          <a:stretch/>
        </p:blipFill>
        <p:spPr>
          <a:xfrm>
            <a:off x="5508720" y="549360"/>
            <a:ext cx="3311280" cy="2330280"/>
          </a:xfrm>
          <a:prstGeom prst="rect">
            <a:avLst/>
          </a:prstGeom>
          <a:ln w="0">
            <a:noFill/>
          </a:ln>
        </p:spPr>
      </p:pic>
      <p:pic>
        <p:nvPicPr>
          <p:cNvPr id="1234" name="Picture 7" descr="krlarge[1]"/>
          <p:cNvPicPr/>
          <p:nvPr/>
        </p:nvPicPr>
        <p:blipFill>
          <a:blip r:embed="rId3"/>
          <a:stretch/>
        </p:blipFill>
        <p:spPr>
          <a:xfrm>
            <a:off x="5219640" y="3645000"/>
            <a:ext cx="3067200" cy="204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35" name="Picture 10" descr="http://www.queenofhoxton.com/wp-content/uploads/2014/03/worldcup.jpg"/>
          <p:cNvPicPr/>
          <p:nvPr/>
        </p:nvPicPr>
        <p:blipFill>
          <a:blip r:embed="rId4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1236" name="Picture 8" descr="costa-rica-flag"/>
          <p:cNvPicPr/>
          <p:nvPr/>
        </p:nvPicPr>
        <p:blipFill>
          <a:blip r:embed="rId5"/>
          <a:stretch/>
        </p:blipFill>
        <p:spPr>
          <a:xfrm>
            <a:off x="522360" y="4440240"/>
            <a:ext cx="29700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Text Box 4"/>
          <p:cNvSpPr/>
          <p:nvPr/>
        </p:nvSpPr>
        <p:spPr>
          <a:xfrm>
            <a:off x="684360" y="260280"/>
            <a:ext cx="799128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I can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describe the flags of the World Cup countries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38" name="Picture 4" descr="mxlarge[1]"/>
          <p:cNvPicPr/>
          <p:nvPr/>
        </p:nvPicPr>
        <p:blipFill>
          <a:blip r:embed="rId1"/>
          <a:stretch/>
        </p:blipFill>
        <p:spPr>
          <a:xfrm>
            <a:off x="7340760" y="5589720"/>
            <a:ext cx="1803240" cy="1095120"/>
          </a:xfrm>
          <a:prstGeom prst="rect">
            <a:avLst/>
          </a:prstGeom>
          <a:ln w="0">
            <a:noFill/>
          </a:ln>
        </p:spPr>
      </p:pic>
      <p:pic>
        <p:nvPicPr>
          <p:cNvPr id="1239" name="Picture 5" descr="nllarge[1]"/>
          <p:cNvPicPr/>
          <p:nvPr/>
        </p:nvPicPr>
        <p:blipFill>
          <a:blip r:embed="rId2"/>
          <a:stretch/>
        </p:blipFill>
        <p:spPr>
          <a:xfrm>
            <a:off x="7236000" y="333360"/>
            <a:ext cx="1670040" cy="1112760"/>
          </a:xfrm>
          <a:prstGeom prst="rect">
            <a:avLst/>
          </a:prstGeom>
          <a:ln w="0">
            <a:noFill/>
          </a:ln>
        </p:spPr>
      </p:pic>
      <p:pic>
        <p:nvPicPr>
          <p:cNvPr id="1240" name="Picture 6" descr="nglarge[1]"/>
          <p:cNvPicPr/>
          <p:nvPr/>
        </p:nvPicPr>
        <p:blipFill>
          <a:blip r:embed="rId3"/>
          <a:stretch/>
        </p:blipFill>
        <p:spPr>
          <a:xfrm>
            <a:off x="6948360" y="1773360"/>
            <a:ext cx="2016360" cy="1003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41" name="Picture 11" descr="eslarge[1]"/>
          <p:cNvPicPr/>
          <p:nvPr/>
        </p:nvPicPr>
        <p:blipFill>
          <a:blip r:embed="rId4"/>
          <a:stretch/>
        </p:blipFill>
        <p:spPr>
          <a:xfrm>
            <a:off x="2733840" y="2927520"/>
            <a:ext cx="1763640" cy="1166760"/>
          </a:xfrm>
          <a:prstGeom prst="rect">
            <a:avLst/>
          </a:prstGeom>
          <a:ln w="0">
            <a:noFill/>
          </a:ln>
        </p:spPr>
      </p:pic>
      <p:pic>
        <p:nvPicPr>
          <p:cNvPr id="1242" name="Picture 12" descr="arlarge[1]"/>
          <p:cNvPicPr/>
          <p:nvPr/>
        </p:nvPicPr>
        <p:blipFill>
          <a:blip r:embed="rId5"/>
          <a:stretch/>
        </p:blipFill>
        <p:spPr>
          <a:xfrm>
            <a:off x="5076720" y="1700280"/>
            <a:ext cx="1584360" cy="1050840"/>
          </a:xfrm>
          <a:prstGeom prst="rect">
            <a:avLst/>
          </a:prstGeom>
          <a:ln w="0">
            <a:noFill/>
          </a:ln>
        </p:spPr>
      </p:pic>
      <p:pic>
        <p:nvPicPr>
          <p:cNvPr id="1243" name="Picture 13" descr="cmlarge[1]"/>
          <p:cNvPicPr/>
          <p:nvPr/>
        </p:nvPicPr>
        <p:blipFill>
          <a:blip r:embed="rId6"/>
          <a:stretch/>
        </p:blipFill>
        <p:spPr>
          <a:xfrm>
            <a:off x="2489040" y="4319640"/>
            <a:ext cx="1729080" cy="1155600"/>
          </a:xfrm>
          <a:prstGeom prst="rect">
            <a:avLst/>
          </a:prstGeom>
          <a:ln w="0">
            <a:noFill/>
          </a:ln>
        </p:spPr>
      </p:pic>
      <p:pic>
        <p:nvPicPr>
          <p:cNvPr id="1244" name="Picture 14" descr="cilarge[1]"/>
          <p:cNvPicPr/>
          <p:nvPr/>
        </p:nvPicPr>
        <p:blipFill>
          <a:blip r:embed="rId7"/>
          <a:stretch/>
        </p:blipFill>
        <p:spPr>
          <a:xfrm>
            <a:off x="179280" y="4437000"/>
            <a:ext cx="1657440" cy="1098720"/>
          </a:xfrm>
          <a:prstGeom prst="rect">
            <a:avLst/>
          </a:prstGeom>
          <a:ln w="0">
            <a:noFill/>
          </a:ln>
        </p:spPr>
      </p:pic>
      <p:pic>
        <p:nvPicPr>
          <p:cNvPr id="1245" name="Picture 15" descr="frlarge[1]"/>
          <p:cNvPicPr/>
          <p:nvPr/>
        </p:nvPicPr>
        <p:blipFill>
          <a:blip r:embed="rId8"/>
          <a:stretch/>
        </p:blipFill>
        <p:spPr>
          <a:xfrm>
            <a:off x="2451240" y="1446120"/>
            <a:ext cx="1800000" cy="1201680"/>
          </a:xfrm>
          <a:prstGeom prst="rect">
            <a:avLst/>
          </a:prstGeom>
          <a:ln w="0">
            <a:noFill/>
          </a:ln>
        </p:spPr>
      </p:pic>
      <p:pic>
        <p:nvPicPr>
          <p:cNvPr id="1246" name="Picture 16" descr="delarge[1]"/>
          <p:cNvPicPr/>
          <p:nvPr/>
        </p:nvPicPr>
        <p:blipFill>
          <a:blip r:embed="rId9"/>
          <a:stretch/>
        </p:blipFill>
        <p:spPr>
          <a:xfrm>
            <a:off x="468360" y="3068640"/>
            <a:ext cx="1871640" cy="1155600"/>
          </a:xfrm>
          <a:prstGeom prst="rect">
            <a:avLst/>
          </a:prstGeom>
          <a:ln w="9360">
            <a:solidFill>
              <a:srgbClr val="ffffd9"/>
            </a:solidFill>
            <a:miter/>
          </a:ln>
        </p:spPr>
      </p:pic>
      <p:pic>
        <p:nvPicPr>
          <p:cNvPr id="1247" name="Picture 17" descr="ghlarge[1]"/>
          <p:cNvPicPr/>
          <p:nvPr/>
        </p:nvPicPr>
        <p:blipFill>
          <a:blip r:embed="rId10"/>
          <a:stretch/>
        </p:blipFill>
        <p:spPr>
          <a:xfrm>
            <a:off x="250920" y="1557360"/>
            <a:ext cx="1800000" cy="1201680"/>
          </a:xfrm>
          <a:prstGeom prst="rect">
            <a:avLst/>
          </a:prstGeom>
          <a:ln w="0">
            <a:noFill/>
          </a:ln>
        </p:spPr>
      </p:pic>
      <p:pic>
        <p:nvPicPr>
          <p:cNvPr id="1248" name="Picture 18" descr="hnlarge[1]"/>
          <p:cNvPicPr/>
          <p:nvPr/>
        </p:nvPicPr>
        <p:blipFill>
          <a:blip r:embed="rId11"/>
          <a:stretch/>
        </p:blipFill>
        <p:spPr>
          <a:xfrm>
            <a:off x="4788000" y="260280"/>
            <a:ext cx="2160360" cy="1079640"/>
          </a:xfrm>
          <a:prstGeom prst="rect">
            <a:avLst/>
          </a:prstGeom>
          <a:ln w="0">
            <a:noFill/>
          </a:ln>
        </p:spPr>
      </p:pic>
      <p:pic>
        <p:nvPicPr>
          <p:cNvPr id="1249" name="Picture 19" descr="itlarge[1]"/>
          <p:cNvPicPr/>
          <p:nvPr/>
        </p:nvPicPr>
        <p:blipFill>
          <a:blip r:embed="rId12"/>
          <a:stretch/>
        </p:blipFill>
        <p:spPr>
          <a:xfrm>
            <a:off x="2232000" y="74520"/>
            <a:ext cx="1727280" cy="1144800"/>
          </a:xfrm>
          <a:prstGeom prst="rect">
            <a:avLst/>
          </a:prstGeom>
          <a:ln w="0">
            <a:noFill/>
          </a:ln>
        </p:spPr>
      </p:pic>
      <p:pic>
        <p:nvPicPr>
          <p:cNvPr id="1250" name="Picture 10" descr="http://www.queenofhoxton.com/wp-content/uploads/2014/03/worldcup.jpg"/>
          <p:cNvPicPr/>
          <p:nvPr/>
        </p:nvPicPr>
        <p:blipFill>
          <a:blip r:embed="rId13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1251" name="Picture 20" descr="be"/>
          <p:cNvPicPr/>
          <p:nvPr/>
        </p:nvPicPr>
        <p:blipFill>
          <a:blip r:embed="rId14"/>
          <a:stretch/>
        </p:blipFill>
        <p:spPr>
          <a:xfrm>
            <a:off x="4889520" y="2982960"/>
            <a:ext cx="1496880" cy="1278000"/>
          </a:xfrm>
          <a:prstGeom prst="rect">
            <a:avLst/>
          </a:prstGeom>
          <a:ln w="9360">
            <a:solidFill>
              <a:srgbClr val="fffffa"/>
            </a:solidFill>
            <a:miter/>
          </a:ln>
        </p:spPr>
      </p:pic>
      <p:pic>
        <p:nvPicPr>
          <p:cNvPr id="1252" name="Picture 21" descr="eclarge"/>
          <p:cNvPicPr/>
          <p:nvPr/>
        </p:nvPicPr>
        <p:blipFill>
          <a:blip r:embed="rId15"/>
          <a:stretch/>
        </p:blipFill>
        <p:spPr>
          <a:xfrm>
            <a:off x="6773760" y="3076560"/>
            <a:ext cx="1698840" cy="113184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22" descr="Colombia_flag_wallpaper"/>
          <p:cNvPicPr/>
          <p:nvPr/>
        </p:nvPicPr>
        <p:blipFill>
          <a:blip r:embed="rId16"/>
          <a:stretch/>
        </p:blipFill>
        <p:spPr>
          <a:xfrm>
            <a:off x="5189400" y="4713120"/>
            <a:ext cx="1758960" cy="1175040"/>
          </a:xfrm>
          <a:prstGeom prst="rect">
            <a:avLst/>
          </a:prstGeom>
          <a:ln w="0">
            <a:noFill/>
          </a:ln>
        </p:spPr>
      </p:pic>
      <p:pic>
        <p:nvPicPr>
          <p:cNvPr id="1254" name="Picture 23" descr="1200px-Flag_of_Croatia"/>
          <p:cNvPicPr/>
          <p:nvPr/>
        </p:nvPicPr>
        <p:blipFill>
          <a:blip r:embed="rId17"/>
          <a:stretch/>
        </p:blipFill>
        <p:spPr>
          <a:xfrm>
            <a:off x="426960" y="5754600"/>
            <a:ext cx="1952640" cy="97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55" name="Picture 24" descr="iran-flag-126-p"/>
          <p:cNvPicPr/>
          <p:nvPr/>
        </p:nvPicPr>
        <p:blipFill>
          <a:blip r:embed="rId18"/>
          <a:stretch/>
        </p:blipFill>
        <p:spPr>
          <a:xfrm>
            <a:off x="3351240" y="5699160"/>
            <a:ext cx="1738440" cy="1085760"/>
          </a:xfrm>
          <a:prstGeom prst="rect">
            <a:avLst/>
          </a:prstGeom>
          <a:ln w="0">
            <a:noFill/>
          </a:ln>
        </p:spPr>
      </p:pic>
      <p:pic>
        <p:nvPicPr>
          <p:cNvPr id="1256" name="Picture 25" descr="ru"/>
          <p:cNvPicPr/>
          <p:nvPr/>
        </p:nvPicPr>
        <p:blipFill>
          <a:blip r:embed="rId19"/>
          <a:stretch/>
        </p:blipFill>
        <p:spPr>
          <a:xfrm>
            <a:off x="7162920" y="4354560"/>
            <a:ext cx="1563480" cy="10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8" name="Text Box 4"/>
          <p:cNvSpPr/>
          <p:nvPr/>
        </p:nvSpPr>
        <p:spPr>
          <a:xfrm>
            <a:off x="0" y="936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7"/>
                </a:solidFill>
                <a:latin typeface="Arial Black"/>
              </a:rPr>
              <a:t>C’est comment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9" name="Text Box 6"/>
          <p:cNvSpPr/>
          <p:nvPr/>
        </p:nvSpPr>
        <p:spPr>
          <a:xfrm>
            <a:off x="1835280" y="573408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onac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60" name="Picture 10" descr="http://www.queenofhoxton.com/wp-content/uploads/2014/03/worldcup.jpg"/>
          <p:cNvPicPr/>
          <p:nvPr/>
        </p:nvPicPr>
        <p:blipFill>
          <a:blip r:embed="rId1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1261" name="Picture 8" descr="File:Flag of Monaco.svg"/>
          <p:cNvPicPr/>
          <p:nvPr/>
        </p:nvPicPr>
        <p:blipFill>
          <a:blip r:embed="rId2"/>
          <a:stretch/>
        </p:blipFill>
        <p:spPr>
          <a:xfrm>
            <a:off x="1946160" y="1343160"/>
            <a:ext cx="531036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3" name="Text Box 5"/>
          <p:cNvSpPr/>
          <p:nvPr/>
        </p:nvSpPr>
        <p:spPr>
          <a:xfrm>
            <a:off x="1835280" y="573408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e Mali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64" name="Picture 10" descr="http://www.queenofhoxton.com/wp-content/uploads/2014/03/worldcup.jpg"/>
          <p:cNvPicPr/>
          <p:nvPr/>
        </p:nvPicPr>
        <p:blipFill>
          <a:blip r:embed="rId1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  <p:sp>
        <p:nvSpPr>
          <p:cNvPr id="1265" name="Text Box 4"/>
          <p:cNvSpPr/>
          <p:nvPr/>
        </p:nvSpPr>
        <p:spPr>
          <a:xfrm>
            <a:off x="0" y="936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7"/>
                </a:solidFill>
                <a:latin typeface="Arial Black"/>
              </a:rPr>
              <a:t>C’est comment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66" name="Picture 8" descr="File:Flag of Mali.svg"/>
          <p:cNvPicPr/>
          <p:nvPr/>
        </p:nvPicPr>
        <p:blipFill>
          <a:blip r:embed="rId2"/>
          <a:stretch/>
        </p:blipFill>
        <p:spPr>
          <a:xfrm>
            <a:off x="1692360" y="1476360"/>
            <a:ext cx="597528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8" name="Text Box 5"/>
          <p:cNvSpPr/>
          <p:nvPr/>
        </p:nvSpPr>
        <p:spPr>
          <a:xfrm>
            <a:off x="1835280" y="573408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adagascar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69" name="Picture 10" descr="http://www.queenofhoxton.com/wp-content/uploads/2014/03/worldcup.jpg"/>
          <p:cNvPicPr/>
          <p:nvPr/>
        </p:nvPicPr>
        <p:blipFill>
          <a:blip r:embed="rId1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  <p:sp>
        <p:nvSpPr>
          <p:cNvPr id="1270" name="Text Box 4"/>
          <p:cNvSpPr/>
          <p:nvPr/>
        </p:nvSpPr>
        <p:spPr>
          <a:xfrm>
            <a:off x="0" y="936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7"/>
                </a:solidFill>
                <a:latin typeface="Arial Black"/>
              </a:rPr>
              <a:t>C’est comment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71" name="Picture 8" descr="File:Flag of Madagascar.svg"/>
          <p:cNvPicPr/>
          <p:nvPr/>
        </p:nvPicPr>
        <p:blipFill>
          <a:blip r:embed="rId2"/>
          <a:stretch/>
        </p:blipFill>
        <p:spPr>
          <a:xfrm>
            <a:off x="1547640" y="1380960"/>
            <a:ext cx="6264360" cy="41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3" name="Text Box 5"/>
          <p:cNvSpPr/>
          <p:nvPr/>
        </p:nvSpPr>
        <p:spPr>
          <a:xfrm>
            <a:off x="1835280" y="573408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e Sénégal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74" name="Picture 10" descr="http://www.queenofhoxton.com/wp-content/uploads/2014/03/worldcup.jpg"/>
          <p:cNvPicPr/>
          <p:nvPr/>
        </p:nvPicPr>
        <p:blipFill>
          <a:blip r:embed="rId1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  <p:sp>
        <p:nvSpPr>
          <p:cNvPr id="1275" name="Text Box 4"/>
          <p:cNvSpPr/>
          <p:nvPr/>
        </p:nvSpPr>
        <p:spPr>
          <a:xfrm>
            <a:off x="0" y="936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7"/>
                </a:solidFill>
                <a:latin typeface="Arial Black"/>
              </a:rPr>
              <a:t>C’est comment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76" name="Picture 8" descr="File:Flag of Senegal.svg"/>
          <p:cNvPicPr/>
          <p:nvPr/>
        </p:nvPicPr>
        <p:blipFill>
          <a:blip r:embed="rId2"/>
          <a:stretch/>
        </p:blipFill>
        <p:spPr>
          <a:xfrm>
            <a:off x="1547640" y="1484280"/>
            <a:ext cx="610740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8" name="Text Box 5"/>
          <p:cNvSpPr/>
          <p:nvPr/>
        </p:nvSpPr>
        <p:spPr>
          <a:xfrm>
            <a:off x="179280" y="5734080"/>
            <a:ext cx="88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République Centrafricain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79" name="Picture 10" descr="http://www.queenofhoxton.com/wp-content/uploads/2014/03/worldcup.jpg"/>
          <p:cNvPicPr/>
          <p:nvPr/>
        </p:nvPicPr>
        <p:blipFill>
          <a:blip r:embed="rId1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  <p:sp>
        <p:nvSpPr>
          <p:cNvPr id="1280" name="Text Box 4"/>
          <p:cNvSpPr/>
          <p:nvPr/>
        </p:nvSpPr>
        <p:spPr>
          <a:xfrm>
            <a:off x="0" y="936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7"/>
                </a:solidFill>
                <a:latin typeface="Arial Black"/>
              </a:rPr>
              <a:t>C’est comment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81" name="Picture 8" descr="File:Flag of the Central African Republic.svg"/>
          <p:cNvPicPr/>
          <p:nvPr/>
        </p:nvPicPr>
        <p:blipFill>
          <a:blip r:embed="rId2"/>
          <a:stretch/>
        </p:blipFill>
        <p:spPr>
          <a:xfrm>
            <a:off x="1547640" y="1311120"/>
            <a:ext cx="6301080" cy="42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3" name="Text Box 5"/>
          <p:cNvSpPr/>
          <p:nvPr/>
        </p:nvSpPr>
        <p:spPr>
          <a:xfrm>
            <a:off x="1835280" y="573408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Tunisi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84" name="Picture 10" descr="http://www.queenofhoxton.com/wp-content/uploads/2014/03/worldcup.jpg"/>
          <p:cNvPicPr/>
          <p:nvPr/>
        </p:nvPicPr>
        <p:blipFill>
          <a:blip r:embed="rId1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  <p:sp>
        <p:nvSpPr>
          <p:cNvPr id="1285" name="Text Box 4"/>
          <p:cNvSpPr/>
          <p:nvPr/>
        </p:nvSpPr>
        <p:spPr>
          <a:xfrm>
            <a:off x="0" y="936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7"/>
                </a:solidFill>
                <a:latin typeface="Arial Black"/>
              </a:rPr>
              <a:t>C’est comment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86" name="Picture 1" descr=""/>
          <p:cNvPicPr/>
          <p:nvPr/>
        </p:nvPicPr>
        <p:blipFill>
          <a:blip r:embed="rId2"/>
          <a:stretch/>
        </p:blipFill>
        <p:spPr>
          <a:xfrm>
            <a:off x="1427040" y="1363680"/>
            <a:ext cx="638496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8" name="Text Box 4"/>
          <p:cNvSpPr/>
          <p:nvPr/>
        </p:nvSpPr>
        <p:spPr>
          <a:xfrm>
            <a:off x="0" y="1628640"/>
            <a:ext cx="91440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d9"/>
                </a:solidFill>
                <a:latin typeface="Arial Black"/>
              </a:rPr>
              <a:t>Et </a:t>
            </a:r>
            <a:r>
              <a:rPr b="1" lang="en-GB" sz="7200" spc="-1" strike="noStrike">
                <a:solidFill>
                  <a:srgbClr val="66ffff"/>
                </a:solidFill>
                <a:latin typeface="Arial Black"/>
              </a:rPr>
              <a:t>ton</a:t>
            </a:r>
            <a:r>
              <a:rPr b="1" lang="en-GB" sz="7200" spc="-1" strike="noStrike">
                <a:solidFill>
                  <a:srgbClr val="ffffd9"/>
                </a:solidFill>
                <a:latin typeface="Arial Black"/>
              </a:rPr>
              <a:t> drapeau ?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d9"/>
                </a:solidFill>
                <a:latin typeface="Arial Black"/>
              </a:rPr>
              <a:t>C’est comment ?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89" name="Picture 10" descr="http://www.queenofhoxton.com/wp-content/uploads/2014/03/worldcup.jpg"/>
          <p:cNvPicPr/>
          <p:nvPr/>
        </p:nvPicPr>
        <p:blipFill>
          <a:blip r:embed="rId1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1" name="Rectangle 7"/>
          <p:cNvSpPr/>
          <p:nvPr/>
        </p:nvSpPr>
        <p:spPr>
          <a:xfrm>
            <a:off x="2195640" y="1916280"/>
            <a:ext cx="5616360" cy="3311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2" name="Oval 8"/>
          <p:cNvSpPr/>
          <p:nvPr/>
        </p:nvSpPr>
        <p:spPr>
          <a:xfrm>
            <a:off x="1547640" y="1484280"/>
            <a:ext cx="865440" cy="358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3" name="Rectangle 9"/>
          <p:cNvSpPr/>
          <p:nvPr/>
        </p:nvSpPr>
        <p:spPr>
          <a:xfrm>
            <a:off x="1835280" y="1773360"/>
            <a:ext cx="288720" cy="496872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64" name="Picture 10" descr="http://www.queenofhoxton.com/wp-content/uploads/2014/03/worldcup.jpg"/>
          <p:cNvPicPr/>
          <p:nvPr/>
        </p:nvPicPr>
        <p:blipFill>
          <a:blip r:embed="rId1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66" name="Picture 8" descr="england"/>
          <p:cNvPicPr/>
          <p:nvPr/>
        </p:nvPicPr>
        <p:blipFill>
          <a:blip r:embed="rId1"/>
          <a:stretch/>
        </p:blipFill>
        <p:spPr>
          <a:xfrm>
            <a:off x="4788000" y="476280"/>
            <a:ext cx="4030560" cy="24192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9" descr="jplarge[1]"/>
          <p:cNvPicPr/>
          <p:nvPr/>
        </p:nvPicPr>
        <p:blipFill>
          <a:blip r:embed="rId2"/>
          <a:stretch/>
        </p:blipFill>
        <p:spPr>
          <a:xfrm>
            <a:off x="4402080" y="3579840"/>
            <a:ext cx="4057560" cy="2711520"/>
          </a:xfrm>
          <a:prstGeom prst="rect">
            <a:avLst/>
          </a:prstGeom>
          <a:ln w="0">
            <a:noFill/>
          </a:ln>
        </p:spPr>
      </p:pic>
      <p:pic>
        <p:nvPicPr>
          <p:cNvPr id="1168" name="Picture 10" descr="chlarge[1]"/>
          <p:cNvPicPr/>
          <p:nvPr/>
        </p:nvPicPr>
        <p:blipFill>
          <a:blip r:embed="rId3"/>
          <a:stretch/>
        </p:blipFill>
        <p:spPr>
          <a:xfrm>
            <a:off x="766800" y="1563840"/>
            <a:ext cx="2868480" cy="286524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10" descr="http://www.queenofhoxton.com/wp-content/uploads/2014/03/worldcup.jpg"/>
          <p:cNvPicPr/>
          <p:nvPr/>
        </p:nvPicPr>
        <p:blipFill>
          <a:blip r:embed="rId4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71" name="Picture 8" descr="uslarge[1]"/>
          <p:cNvPicPr/>
          <p:nvPr/>
        </p:nvPicPr>
        <p:blipFill>
          <a:blip r:embed="rId1"/>
          <a:stretch/>
        </p:blipFill>
        <p:spPr>
          <a:xfrm>
            <a:off x="2411280" y="268200"/>
            <a:ext cx="2760840" cy="146052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14" descr="nllarge[1]"/>
          <p:cNvPicPr/>
          <p:nvPr/>
        </p:nvPicPr>
        <p:blipFill>
          <a:blip r:embed="rId2"/>
          <a:stretch/>
        </p:blipFill>
        <p:spPr>
          <a:xfrm>
            <a:off x="6605640" y="3537000"/>
            <a:ext cx="2317680" cy="1544760"/>
          </a:xfrm>
          <a:prstGeom prst="rect">
            <a:avLst/>
          </a:prstGeom>
          <a:ln w="0">
            <a:noFill/>
          </a:ln>
        </p:spPr>
      </p:pic>
      <p:pic>
        <p:nvPicPr>
          <p:cNvPr id="1173" name="Picture 16" descr="frlarge[1]"/>
          <p:cNvPicPr/>
          <p:nvPr/>
        </p:nvPicPr>
        <p:blipFill>
          <a:blip r:embed="rId3"/>
          <a:stretch/>
        </p:blipFill>
        <p:spPr>
          <a:xfrm>
            <a:off x="6372360" y="274680"/>
            <a:ext cx="2317680" cy="1547640"/>
          </a:xfrm>
          <a:prstGeom prst="rect">
            <a:avLst/>
          </a:prstGeom>
          <a:ln w="0">
            <a:noFill/>
          </a:ln>
        </p:spPr>
      </p:pic>
      <p:pic>
        <p:nvPicPr>
          <p:cNvPr id="1174" name="Picture 17" descr="chilelg[1]"/>
          <p:cNvPicPr/>
          <p:nvPr/>
        </p:nvPicPr>
        <p:blipFill>
          <a:blip r:embed="rId4"/>
          <a:stretch/>
        </p:blipFill>
        <p:spPr>
          <a:xfrm>
            <a:off x="379440" y="5157720"/>
            <a:ext cx="2232000" cy="1476360"/>
          </a:xfrm>
          <a:prstGeom prst="rect">
            <a:avLst/>
          </a:prstGeom>
          <a:ln w="0">
            <a:noFill/>
          </a:ln>
        </p:spPr>
      </p:pic>
      <p:pic>
        <p:nvPicPr>
          <p:cNvPr id="1175" name="Picture 18" descr="aularge[1]"/>
          <p:cNvPicPr/>
          <p:nvPr/>
        </p:nvPicPr>
        <p:blipFill>
          <a:blip r:embed="rId5"/>
          <a:stretch/>
        </p:blipFill>
        <p:spPr>
          <a:xfrm>
            <a:off x="4543560" y="5302080"/>
            <a:ext cx="2765160" cy="1386000"/>
          </a:xfrm>
          <a:prstGeom prst="rect">
            <a:avLst/>
          </a:prstGeom>
          <a:ln w="0">
            <a:noFill/>
          </a:ln>
        </p:spPr>
      </p:pic>
      <p:pic>
        <p:nvPicPr>
          <p:cNvPr id="1176" name="Picture 10" descr="http://www.queenofhoxton.com/wp-content/uploads/2014/03/worldcup.jpg"/>
          <p:cNvPicPr/>
          <p:nvPr/>
        </p:nvPicPr>
        <p:blipFill>
          <a:blip r:embed="rId6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1177" name="Picture 15" descr="ru"/>
          <p:cNvPicPr/>
          <p:nvPr/>
        </p:nvPicPr>
        <p:blipFill>
          <a:blip r:embed="rId7"/>
          <a:stretch/>
        </p:blipFill>
        <p:spPr>
          <a:xfrm>
            <a:off x="441360" y="2109960"/>
            <a:ext cx="2139840" cy="1427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78" name="Picture 16" descr="1200px-Flag_of_Croatia"/>
          <p:cNvPicPr/>
          <p:nvPr/>
        </p:nvPicPr>
        <p:blipFill>
          <a:blip r:embed="rId8"/>
          <a:stretch/>
        </p:blipFill>
        <p:spPr>
          <a:xfrm>
            <a:off x="2916360" y="3662280"/>
            <a:ext cx="2598480" cy="1300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79" name="Picture 17" descr="costa-rica-flag"/>
          <p:cNvPicPr/>
          <p:nvPr/>
        </p:nvPicPr>
        <p:blipFill>
          <a:blip r:embed="rId9"/>
          <a:stretch/>
        </p:blipFill>
        <p:spPr>
          <a:xfrm>
            <a:off x="4133880" y="1908000"/>
            <a:ext cx="2316240" cy="15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81" name="Picture 4" descr="hnlarge[1]"/>
          <p:cNvPicPr/>
          <p:nvPr/>
        </p:nvPicPr>
        <p:blipFill>
          <a:blip r:embed="rId1"/>
          <a:stretch/>
        </p:blipFill>
        <p:spPr>
          <a:xfrm>
            <a:off x="1835280" y="1122480"/>
            <a:ext cx="4248000" cy="2122200"/>
          </a:xfrm>
          <a:prstGeom prst="rect">
            <a:avLst/>
          </a:prstGeom>
          <a:ln w="0">
            <a:noFill/>
          </a:ln>
        </p:spPr>
      </p:pic>
      <p:pic>
        <p:nvPicPr>
          <p:cNvPr id="1182" name="Picture 5" descr="grlarge[1]"/>
          <p:cNvPicPr/>
          <p:nvPr/>
        </p:nvPicPr>
        <p:blipFill>
          <a:blip r:embed="rId2"/>
          <a:stretch/>
        </p:blipFill>
        <p:spPr>
          <a:xfrm>
            <a:off x="3780000" y="4076640"/>
            <a:ext cx="3456000" cy="2297160"/>
          </a:xfrm>
          <a:prstGeom prst="rect">
            <a:avLst/>
          </a:prstGeom>
          <a:ln w="0">
            <a:noFill/>
          </a:ln>
        </p:spPr>
      </p:pic>
      <p:pic>
        <p:nvPicPr>
          <p:cNvPr id="1183" name="Picture 10" descr="http://www.queenofhoxton.com/wp-content/uploads/2014/03/worldcup.jpg"/>
          <p:cNvPicPr/>
          <p:nvPr/>
        </p:nvPicPr>
        <p:blipFill>
          <a:blip r:embed="rId3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85" name="Picture 4" descr="ptlarge[1]"/>
          <p:cNvPicPr/>
          <p:nvPr/>
        </p:nvPicPr>
        <p:blipFill>
          <a:blip r:embed="rId1"/>
          <a:stretch/>
        </p:blipFill>
        <p:spPr>
          <a:xfrm>
            <a:off x="2411280" y="1989000"/>
            <a:ext cx="4465800" cy="2948040"/>
          </a:xfrm>
          <a:prstGeom prst="rect">
            <a:avLst/>
          </a:prstGeom>
          <a:ln w="0">
            <a:noFill/>
          </a:ln>
        </p:spPr>
      </p:pic>
      <p:pic>
        <p:nvPicPr>
          <p:cNvPr id="1186" name="Picture 10" descr="http://www.queenofhoxton.com/wp-content/uploads/2014/03/worldcup.jpg"/>
          <p:cNvPicPr/>
          <p:nvPr/>
        </p:nvPicPr>
        <p:blipFill>
          <a:blip r:embed="rId2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88" name="Picture 4" descr="dzlarge[1]"/>
          <p:cNvPicPr/>
          <p:nvPr/>
        </p:nvPicPr>
        <p:blipFill>
          <a:blip r:embed="rId1"/>
          <a:stretch/>
        </p:blipFill>
        <p:spPr>
          <a:xfrm>
            <a:off x="1260360" y="1422360"/>
            <a:ext cx="3097440" cy="2060640"/>
          </a:xfrm>
          <a:prstGeom prst="rect">
            <a:avLst/>
          </a:prstGeom>
          <a:ln w="0">
            <a:noFill/>
          </a:ln>
        </p:spPr>
      </p:pic>
      <p:pic>
        <p:nvPicPr>
          <p:cNvPr id="1189" name="Picture 5" descr="itlarge[1]"/>
          <p:cNvPicPr/>
          <p:nvPr/>
        </p:nvPicPr>
        <p:blipFill>
          <a:blip r:embed="rId2"/>
          <a:stretch/>
        </p:blipFill>
        <p:spPr>
          <a:xfrm>
            <a:off x="5219640" y="765000"/>
            <a:ext cx="3097440" cy="2054520"/>
          </a:xfrm>
          <a:prstGeom prst="rect">
            <a:avLst/>
          </a:prstGeom>
          <a:ln w="0">
            <a:noFill/>
          </a:ln>
        </p:spPr>
      </p:pic>
      <p:pic>
        <p:nvPicPr>
          <p:cNvPr id="1190" name="Picture 6" descr="mxlarge[1]"/>
          <p:cNvPicPr/>
          <p:nvPr/>
        </p:nvPicPr>
        <p:blipFill>
          <a:blip r:embed="rId3"/>
          <a:stretch/>
        </p:blipFill>
        <p:spPr>
          <a:xfrm>
            <a:off x="5192640" y="3830760"/>
            <a:ext cx="3340080" cy="2027160"/>
          </a:xfrm>
          <a:prstGeom prst="rect">
            <a:avLst/>
          </a:prstGeom>
          <a:ln w="0">
            <a:noFill/>
          </a:ln>
        </p:spPr>
      </p:pic>
      <p:pic>
        <p:nvPicPr>
          <p:cNvPr id="1191" name="Picture 10" descr="http://www.queenofhoxton.com/wp-content/uploads/2014/03/worldcup.jpg"/>
          <p:cNvPicPr/>
          <p:nvPr/>
        </p:nvPicPr>
        <p:blipFill>
          <a:blip r:embed="rId4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1192" name="Picture 7" descr="iran-flag-126-p"/>
          <p:cNvPicPr/>
          <p:nvPr/>
        </p:nvPicPr>
        <p:blipFill>
          <a:blip r:embed="rId5"/>
          <a:stretch/>
        </p:blipFill>
        <p:spPr>
          <a:xfrm>
            <a:off x="866880" y="4170240"/>
            <a:ext cx="320184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94" name="Picture 4" descr="eslarge[1]"/>
          <p:cNvPicPr/>
          <p:nvPr/>
        </p:nvPicPr>
        <p:blipFill>
          <a:blip r:embed="rId1"/>
          <a:stretch/>
        </p:blipFill>
        <p:spPr>
          <a:xfrm>
            <a:off x="2124000" y="1844640"/>
            <a:ext cx="4824360" cy="3191040"/>
          </a:xfrm>
          <a:prstGeom prst="rect">
            <a:avLst/>
          </a:prstGeom>
          <a:ln w="0">
            <a:noFill/>
          </a:ln>
        </p:spPr>
      </p:pic>
      <p:pic>
        <p:nvPicPr>
          <p:cNvPr id="1195" name="Picture 10" descr="http://www.queenofhoxton.com/wp-content/uploads/2014/03/worldcup.jpg"/>
          <p:cNvPicPr/>
          <p:nvPr/>
        </p:nvPicPr>
        <p:blipFill>
          <a:blip r:embed="rId2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4-05-16T13:43:07Z</dcterms:modified>
  <cp:revision>61</cp:revision>
  <dc:subject/>
  <dc:title>Slide 1</dc:title>
</cp:coreProperties>
</file>