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4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832-FBF6-4A47-9B4B-BF40D2ACF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jaune et n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56E0-F359-4A0E-9545-957F34AFF3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jaune, noir et 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DC80-658E-4CC1-9CDC-36F4395079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3B1-FE2F-4259-B731-C91847259312}" type="slidenum">
              <a:rPr b="0" lang="es-UY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 bl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C085-D327-4EFD-A34C-06306052FDE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e éto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E1E-F8A2-4711-AD13-B8AA08A345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cinq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9DE-A802-4FFD-8449-E386C28E43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six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570F-52E8-4B0C-9636-6837197014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sept éto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C8E-0C40-4327-8686-B6E0E2BFDC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e cro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B99-2D55-43C6-8C18-0A3F515A7DF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un ce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903-DF3C-4F8B-A608-273001948D4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a trois b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D0BE-6117-43A6-B98A-4065D96C073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43F-AB31-4B6F-B5B2-7BD3E88350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9B1-B3EF-4B3E-89F5-7276AA04F6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E205-6C68-46E2-BBE6-CBB7ABB4A8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’est com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F5C-4986-4A17-AE00-5E0A86FFE2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122-3146-4D11-9D71-EF1C6F605D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D800-457A-4D8D-8A44-BF1F4156A4F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3C5-664B-4B5A-9102-04D1C59DFB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A9A-D468-4780-85B3-1957554E4C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57C-CD04-41C2-8B48-9D16FDB4BE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blanc et ble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1BDE-1C16-4374-AF95-5BF81716C5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bleu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DA26-6FED-4F6D-9902-B801F0595D7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v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E08-EA2F-4006-A979-765C5BE9801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, vert et bla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F134-D3B9-4C5D-917E-D9BC835D20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Mon drapeau est rouge et ja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382-5A1A-4206-A48B-C9B0EA06469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51C-F334-4171-83F9-608E9CD2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5FE-5601-46E5-ABB4-63D8903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AE270-10A8-45EE-A0D7-546A0AC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2115-1F8C-4056-8FA2-75E97410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A26CA-873F-4C37-A040-B338FD4A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BEC2-A846-488E-A53A-B2708F3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2D8A-6B7A-4E5F-B3C8-B80B545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8B7AB-DA14-4439-99D6-CDE1B2D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46AAB-A551-4888-8B9D-C38716E1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9217-826E-40D9-B70C-8C54DF6A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A4E85-ECBF-4E9D-8ABD-898F5CD6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C057F-436B-4D0A-B631-91526073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CA8-1349-4935-B315-4B30A6C3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CD3DC-46E3-460C-8466-4E37A25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F6EA5-F781-435C-856A-3AC376A1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68C8D-BE93-497E-896B-F5262D60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885E8-25FA-49DC-A55C-CD72DDD6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1448-7259-40D7-A2F6-42F3F8DC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CE104-CE3A-4560-A810-52D2136A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8BBA0-FFB1-4920-AD5A-65943A0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4D9ED-9B3F-4CF4-98AF-08DE50D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40E29-E226-4758-A51C-CE1B9379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48C8-1811-4BB2-AF06-06EB1A41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058-DD3B-4D63-9AB6-ACCD63E7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44550-E6FB-47CA-A38C-0B31CD6D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5C31-2683-4EB7-BCA2-79FF9B0D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00D4-3D72-4734-8E11-6EFBB566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A111-4061-4AA4-B9FB-216A463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04D3E-7931-4F1B-8FCC-3F10162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A75B8-3F18-49DB-B587-D65BE95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66E6-B964-46C4-B681-8DAAE38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D499-A10B-414C-B568-FFAB936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104D7-ADBE-465D-A850-3B7D49D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CAD34-963D-45EA-A43C-4853ACF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F25-1778-4C54-BAC2-6632B5BB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3F01C-196F-47E4-B978-671A4B3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0032B-9CF0-469B-8026-CC47C346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D7832-AA55-48AD-8E97-0B3068E4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383EE-CBA4-4AE9-A641-58EACCF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8A3AA-F622-4EAF-ADB1-620ADEF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6E113-BF26-4AE6-B3B0-D4A3764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4A8DD-BDBE-4899-A217-07ADB9C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8010B-7C13-4DA7-BA1A-1A81F8DE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BFF62-B3D4-4B51-AECF-4659BAB7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FB2B2-6971-4B50-8FF8-CB67578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C78-2C81-4854-87A3-F2EFE39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6D33-E221-43C9-B559-4DD1743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33A9E-FC1D-4756-B632-B6B8328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DFA7-BD79-4187-B26F-60CB2BA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D8BB2-B49C-4BDC-AC42-262D4762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0C4DB-12FD-412E-A4CF-CF912A51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101A1-A793-473D-BACD-E9610367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7C0EA-C8E1-4DD8-985D-1D6BF4E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EAAD0-5303-4737-87B5-90501000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94FF5-EE24-44A6-973A-E613A0F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DC1B7-49C7-41E5-9277-EFC6506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C10C-C994-4281-B1D4-3C60005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6FDA7-1364-482D-8A8D-F03E2B5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BAAFB-BE61-4C44-B356-32C2CEE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61FD9-11A3-452A-BEB8-76F2FDD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92AA9-867F-41B9-A829-120916A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F0D69-E776-40DE-8D7A-BDD0BB0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C17D5-2CE7-4BA2-AD24-02349CA5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1F87F-3133-45B2-8D27-827AF3BF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4D8B8-4D23-42AE-AC50-1FD93261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D9866-8F3D-4937-AD1F-A638C113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01CD1-93CB-46E1-AC83-F9967DF5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585-931C-458E-A131-560AA36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0277A-498F-42B7-834A-6D11610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FAE0F-8A8E-43E9-8ED5-5FE851B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DBB6D-5F24-4849-AB27-959C16D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2BDD4-585D-4503-A0CC-CB4FB5C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24B9B-815F-463C-81B7-3B335F3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04E51-7D3B-4CDA-A270-6DAAFF3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B0A5A-BE65-4A62-A69F-6E137605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C4F3B-9962-49DF-AB07-78368B52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890F7-C58A-4D32-88D7-28B18688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FBF4E-F8A1-4CDE-B39A-B35DB902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86D-1A61-4CF6-9524-543CE964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69ACB-2722-4DF8-A6E2-4DFB0A2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2BD7F-21C4-412B-930A-1E74607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E6A1A-8904-42CF-A7ED-78B7C7A5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1445A-C01C-408B-A325-77A37952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8EC0C-8150-4664-AD13-4D5F3554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1BFF3-0C33-432B-B53C-F1530FE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3743E-9600-426B-B2EC-A84AA64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C8B34-94D0-49E9-A581-36B3C1F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C2C77-2419-4E0D-9BD2-ABFB395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0CC61-15EA-4B1F-BB9A-F89B0B2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B4C9-1C47-4D73-9EE9-F159A46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C1FEA-091E-47C9-AA90-67F7CCBE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79598-6C98-4DAF-A57E-729FFC6E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9725D-4D87-4786-BB7C-9CB1E81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3B12F-41F5-4202-9012-C1352D0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AC0C8-F698-431D-9D12-643E27D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2958A-5828-4229-BFC2-F72352D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89BA6-E1F0-452A-8DF2-9022C7C4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E3048-167C-47E2-A546-61BCBA4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42B0D-CD27-431F-820B-1CF4DFD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7BBC4-6B09-4A42-ABC2-643E208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995-4CA3-4331-9010-BA424FF4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7E4E0-8F37-45F2-BA8B-4D8FDB84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B2EA1-BDBF-4080-9F21-6F47DEE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68B98-0459-4531-A373-563BCF2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084CF-744B-4D36-9A86-DB60C637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3F78E-F0B7-4ECE-BD90-28B2131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C0BA2-9DF8-42F9-8F4E-D215EE22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E6A85-3C8C-4CBC-A89A-01BA9570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A2794-CCFE-47DE-8FC0-AF387308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A1B3C-19B5-4F19-BAC6-ED0FE09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F6F12-F3A3-4C54-8922-14D5754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FF1-03F3-4807-A2F7-BB7A625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5A24-A28E-4918-BC1E-3A9DB62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CDEAD-7998-43A8-BD6D-5EB2664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1585D-3A1C-415E-BD27-91AEDFF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4AB65-7004-469A-A539-1B0F454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5B274-D531-4330-9884-1214BA1C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26D49-2954-49AB-A92B-3D777539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B9077-2679-46E1-8D38-CBCCFDCA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A28F4-8998-4254-A542-0C0FEBB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8ADF9-2140-4BC4-A6C9-C3543F36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C5A71-EFF2-483D-B205-86EC69B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A1DF4-C711-4751-B83F-1648AFF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649E-5061-4707-8A8A-E4EE5FA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DE7B1-6BCF-4968-897B-132D3AC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6BB0C-F6A6-4585-A89B-19FC1081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26827-A254-4AFC-983A-C3323C9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D6A0D-8810-4C96-BC61-DFC7AD47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DEFB3-0530-4C22-ABD1-4828F24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E4A97-7A04-4F06-8B6B-C1DF9DBD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388BC-CF2F-417F-A591-E3E68A18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0F776-0BB6-4671-AC99-2CD36788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5610E-36D6-4079-9616-E87CAF2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5FC6D-B6A9-4E58-8700-CBC63C5C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4622-9206-4733-8097-99BEF28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7FBD9-83C9-4477-AF0B-A1427A3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06086-8D5C-4CA9-9A34-9387EA14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C19A3-D6BF-4546-8CA6-45FD230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4B600-4D48-4237-8290-6386CAE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02A00-518C-475C-A21E-AC27D4A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46616-0971-4BA9-B2A1-F3D1261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03690-7E23-4DA9-BA21-FA93890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909E3-B269-46DE-A5FF-537B82F6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7A939-7821-4260-9D80-21473342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32EA4-77D7-42EE-8C56-F7E15C2F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D83C-7760-41DD-91A5-E8A6F7CD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17960-10D7-4947-BDB2-09D78179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BA67C-BD6B-4BE5-ACBB-4403656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551A9-6D04-4B8E-902F-7AA4D31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CF7EF-39C4-4A53-9B25-8F59A36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FA065-91AF-4F16-A8DD-C3DEC0A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3E657-43C3-4F0F-8F96-F8A345EF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9D499-43A4-4A6E-B217-A568B1C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B8689-6D1F-4F07-AFC9-C5D60DC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A4B07-6557-4868-B9D2-F3BF75A2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6FC89-E32C-49EB-9A53-0F0E0930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46A-C0E8-4D34-B8E7-CB65E702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34540-619B-4540-88C7-5DBC485E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2FDA1-AD9F-4E21-BBF0-643B0FC9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5AE4E-8671-426D-97E6-5B3BD4C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24E78-AE0E-4747-9EB5-EB1F41D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C470D-717D-41F3-B039-6631A220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4CB3C-BA8B-47EC-988E-CD888768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8285B-478E-4279-832E-2E23C7AA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D7C52-A004-4603-8495-1ABC82C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A1C795-E9C2-460E-898B-C76AB46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F903E-E807-403A-9800-06DCA12B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2549-6A4E-4ECB-919A-D74D89D1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BC68B-94B6-470A-9EB1-C753FEF8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7168E-2FC2-42C7-95EC-0EB3AB94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C8757-1EDC-4CB9-BD12-9BE337B2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F5939-C27F-4528-89D6-9ADBC54B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2DF5C-A7A4-41B5-8A5B-0A9FA888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8E58E-A2DF-4976-80B2-9988ED0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649AF8-16C6-454A-85E1-188BB1EF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A0400A-3D08-4E95-8D6B-0E47B4C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FCCABC-9679-4C4E-8D3C-230F1AC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6DB131-E829-4E6B-AD09-64A6990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EEA7-1732-4D4A-B7EC-10C6F0E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CE1A8-3F02-4CCE-B8ED-00019EF5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368A33-B5DD-45D1-A09E-D75F53CA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44847-83AF-44CC-B981-F27EA93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2E3BC7-B0CB-4EC6-8506-09039BF1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E0B28-0456-4A1C-AFA6-5D06459C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42B50-A78A-4BA4-A129-8E9F3CCC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75F6B7-FD63-4842-9556-CAD7C08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64FE1-928C-4419-9C0F-7B54AB3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E9090-42B1-40D1-B4CD-53460F6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40C34B-7A6D-4FAC-B534-EC6DA76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55B2-6320-455E-83A7-D6B5186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8A3A73-83A1-4C5B-A279-AA46B4B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A7F43B-0ADE-45F8-95F6-095DE38E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C4ACBB-384A-4A3D-A751-DF60ADC8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CC076F-1568-44D2-BC47-8EE80C7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E0726-AA4C-4CE4-A896-1FEA20F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3C5CBE-6DFC-415D-8CD8-0EA7BB64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ECB04-2EBC-4370-A75E-A9FAB26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FFD71-D415-4C91-B654-C431FD01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3C8169-C931-4F3A-8B9E-8A9E945B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2AC66D-2F4D-48E1-86E6-0E589D1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ABED-F290-4412-A1AC-4F15DAD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E5173-CAE1-4E18-BAF3-9CE7D71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006129-69AE-4995-ADE9-4FB4B44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7328E-440A-4236-B001-FA070818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457C4A-9DD3-4DC7-B0DE-E7447DB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4B5997-F97C-4059-B851-AB2ACED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377C0-9B13-4D0B-BC5B-7557E42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740518-36C9-4878-8334-555FB70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B2468A-563B-4557-BC32-9195A7F1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8A3BDD-8A00-4255-83E5-983ABDA3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A4B236-F089-4850-9F5E-9212F326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5D7F4-2976-497C-9AFA-EB09F77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D65ABB-28B0-486F-B040-8E5D4C0E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E5E8A8-08D5-43E2-97D3-437BBC4D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9C7637-F6B1-4269-9CD9-4EB38B8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B931C4-41DE-4E69-8C53-D3E1AC38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2AB5A1-1CBF-4E6E-A2F9-B5C1FA1E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2A4F28-4318-4498-8222-ABE5D904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05C027-9096-4E73-A458-2A84943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FA039E-7D03-4C35-97E5-1C6FD05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66D849-CF8E-48D9-8A96-0C504834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A16509-CA0C-48EA-AE6A-32CAA9D3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26E-3F5E-4784-B658-51463835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EEEB-7A3A-4A25-8DF6-AAFFF61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2B4AEF-AFD8-4CA6-946B-BBAB54BB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1785EF-F1E8-4679-93BF-14FEE684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A067D0-F7A5-4CBB-A90C-EE2FF1A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445970-4273-495F-97A0-D8D578E1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8F48BC-22DC-4102-B12D-ADAE4BAD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20659C-437B-4D97-A4FD-503A633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6FBDE-7A82-49F4-A4D5-EE9AFFA3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5FE502-66DB-4B30-B92E-86E9A87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CAEA66-26B9-4771-B395-D481EE4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A991F3-377F-40C8-BC56-A0D492E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E52A-CB8E-4243-8AED-67E5A76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53CF6E-D2F3-4A9F-A64C-10CDC0C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9C1202-F21A-4D84-967F-6478C8F2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C16CA0-A6CC-4E33-BE63-42EF915C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74314D-69B9-401C-8DB7-B099ED6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4866F1-F4F2-4DB2-A925-5092763E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ECC0D-C838-4338-969E-719554C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660987-FED2-4315-AE00-4A0E505D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66B7F1-1242-452E-9437-D3E2260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874FC6-1C13-4EC2-ABEB-D22533B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755A83-FF06-4047-ACD1-848D3EB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9F64-66FC-43AB-99B0-0693D69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226BB1-8B49-4331-B544-5A39835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73781F-AA29-4878-B7B7-421C3F1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CDBCF2-63C3-45D3-8E55-3600D0F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32D4FB-3BB8-4615-B1DF-47D0CB35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98F0C-D600-4253-9B39-C88F5A8E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AB106-A5B3-45EF-B9DC-4DD85314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34B22D-9A7C-4183-B4EB-9BC6F025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277151-400C-4986-8185-E7E6CE0A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887364-FAB3-4517-8F9D-C74A60C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336A33-3D09-45F8-B0F7-25965CE4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CD94-EE45-4808-843C-8038C7A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3CA570-6CB7-48C3-8E7B-9751164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16E599-4329-47F5-8334-20D03048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EBDFF2-57A3-4014-AE6F-B6CFAA6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CD44C7-C0C9-4B20-B091-F4917BB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0466F0-F05E-4212-974D-CF01BA6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4E1AA2-7208-4BB8-8BA9-C4CB5E33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738292-2BB6-4FEE-9CBC-2081DFF2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40DD-060C-463F-A401-1EC31D9B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9354-2359-4875-9541-F688783E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3EB0-B3E6-4FFB-9676-759A16FC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8DA0-0780-4745-B428-A79F1E30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D29B-91E0-4FEA-8786-BE3784A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555B-FC71-4A22-80A3-410A7A9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678-51E1-4462-A563-7075F44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692B-A2A1-4B2B-86CE-162F4337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87D1-F674-4D7A-B974-E92606A3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6189-D05E-4EA4-B18E-C0076E4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BA43-9DFA-4DEE-8CDA-55E7802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0CF0-02C7-431A-8F97-2DA722E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D908-D715-4620-B65B-23B56EE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95CB-50B0-4149-996D-0E2F4D0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764D3-17AE-4A6A-8925-4C99BBBE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0971-DAFB-47AE-A6CC-D0344B34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3168-5538-4124-B33E-8D41E170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331-5EE4-49A1-BD17-FEF323E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7AC2F-D47E-4892-A70D-2FA6AC60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7768-274E-4559-B1CB-B3A9D50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8A83-53CB-4436-A59A-EBB985F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68D9-1EC6-41AC-9A2C-5F36D7B3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BA7D-1143-4753-BF84-7F900C1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2E06-BABA-4EA8-BFFE-A4E22BD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6F0A-90D1-47AC-808E-9CB0E1C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AE18-F690-47B4-B368-93C8D67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65D7-81BB-4023-AABC-65E10D1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EED2-83F4-4592-8936-3C52BD47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214-6F42-46D3-83E4-12C23F8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CE0C-0DF8-45E6-A0A3-00A6F52E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6003-9D2A-4DA4-9849-7CE29013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2E67-F30C-4E35-8FCF-4FA3446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E608-CA49-4E48-AAC9-F97D3293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78E3-5D64-4731-95C1-DA2D748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D460-2735-49E1-A9B8-DC34BD2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AFA7-5B0F-430A-8800-7136E66F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E071-9C22-404F-B9F2-F6E06FA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1920-A89F-4B13-9A42-5B390C2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91ED-C765-40D5-B573-A0EDF26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410-1DE3-4FF3-A10B-3B2783E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DADB-E0B8-458C-9D1A-92C7272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E678-1FF7-44D6-A965-EC7BFC4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0EDC-8E92-4C64-BE59-AC9F0BE1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BF8D-098C-4696-8B4D-9E3439D0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3D9AF-0B9C-467D-93EE-5230379C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BBEF-3DBC-4945-B622-6890164E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A43E-5115-4A0F-A31B-E56A54A7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0629-D64B-4D56-A45F-718CA5D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C860-EDD1-47F0-827E-61D5271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F891-F751-4A8B-89D9-579C456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755-5643-4AC9-8CAE-0691B89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BC93-C308-414E-8AB0-32CCD59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AD29E-2580-4B7A-9C07-8A9F2DA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3F0F-57F5-4181-9280-661CC9DF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4927-AEAA-4BB1-941B-FA45B3A1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6861-35C3-4070-BC60-D102152D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1AF3C-F4C3-416F-8D59-0A2C4527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E5A02-7617-4A1D-A70B-4A86903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7EE3-36AE-476A-8FCF-0FD94EE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8A51-E862-40B5-8D24-483ED67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A07AD-1579-4200-A784-41A61CC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01A-0E3F-45ED-9822-1FC550E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5B4D-4348-4954-A7CF-991FD5F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FCA6-747B-49C0-B7AC-EBA8E9B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2F4D-E5FC-4014-A2E1-68E58EF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2B4C-6A98-4E0D-B110-088D970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F2A9-CED8-4800-9329-73F62AF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CFC2-B6CD-4B00-9978-B4D0BF74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BC8E-2370-403A-9935-94E95453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ED69-E5B5-4F7E-8BD8-16070CF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5551C-B65F-41D4-AC06-7D1B1F86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7D73E-88E8-4DB0-B2B1-86FA7A3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5EEA-6C03-49BE-A68C-C5BA2CE747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5C8-8C54-4B87-A16A-AE303C9259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B61-10F8-4C04-A5D4-5D8B3ED0B4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B29-61EA-4661-84FD-A446DB9BA0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B673-1691-4B1E-8DFB-95E6DE2DDF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C1A-87C7-43ED-9F2E-02C96DADD0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BF6-963F-4319-890F-C55D364C3D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AD54-292E-47D4-812C-7B1B91E5EB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02DB-DD12-4FC9-BB7F-558B64189F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FA7-96A2-4EE4-BD55-9A9F14CB62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ACA9-DA83-4600-8B79-D2E6FA45B4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F72-8532-4DF5-B240-7B54D3099F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EA77-F086-44B6-9975-F5C5A228A0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4A9-93E8-4A12-AFF0-CD3DDB9CD3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AFB4-CCB2-4265-AAE7-F9765CA871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2C96-538C-452E-8979-ACBFAF365D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232-F470-45D5-913D-577821210F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FCD-544C-42CD-8232-5D02C2CEEF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DB7C-A72A-4BD3-A55C-C8A5726E98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9292-5523-48AE-BC57-CD6DE3ABE3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81D-A724-43B5-944F-36F2AD5DFB9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4DD-650B-4B42-AB4A-5C961ACB80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A04D-05BE-432C-8679-98ACFE5E02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D39-3AC1-4B85-8141-B3F99BAA35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915-0D12-4720-B509-49EEECE11F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9B1-4796-4A20-BE37-ECDFFF72E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39C-5B03-4141-A1BC-29C1A31083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3F5-80D3-452A-8332-82793EF046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3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image" Target="../media/image4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0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3.png"/><Relationship Id="rId5" Type="http://schemas.openxmlformats.org/officeDocument/2006/relationships/image" Target="../media/image34.png"/><Relationship Id="rId6" Type="http://schemas.openxmlformats.org/officeDocument/2006/relationships/image" Target="../media/image29.png"/><Relationship Id="rId7" Type="http://schemas.openxmlformats.org/officeDocument/2006/relationships/image" Target="../media/image35.png"/><Relationship Id="rId8" Type="http://schemas.openxmlformats.org/officeDocument/2006/relationships/image" Target="../media/image10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4.jpeg"/><Relationship Id="rId14" Type="http://schemas.openxmlformats.org/officeDocument/2006/relationships/image" Target="../media/image25.png"/><Relationship Id="rId15" Type="http://schemas.openxmlformats.org/officeDocument/2006/relationships/image" Target="../media/image36.jpe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jpe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217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4"/>
          <p:cNvSpPr/>
          <p:nvPr/>
        </p:nvSpPr>
        <p:spPr>
          <a:xfrm>
            <a:off x="826920" y="141300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Comic Sans MS"/>
              </a:rPr>
              <a:t>Français</a:t>
            </a:r>
            <a:endParaRPr b="0" lang="en-US" sz="1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8" name="TextBox 1"/>
          <p:cNvSpPr/>
          <p:nvPr/>
        </p:nvSpPr>
        <p:spPr>
          <a:xfrm>
            <a:off x="2484360" y="6524640"/>
            <a:ext cx="655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©Light Bulb Languages 2014 CS </a:t>
            </a:r>
            <a:r>
              <a:rPr b="0" lang="en-GB" sz="800" spc="-1" strike="noStrike" u="sng">
                <a:solidFill>
                  <a:srgbClr val="98eee3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7" name="Picture 4" descr="delarge[1]"/>
          <p:cNvPicPr/>
          <p:nvPr/>
        </p:nvPicPr>
        <p:blipFill>
          <a:blip r:embed="rId1"/>
          <a:stretch/>
        </p:blipFill>
        <p:spPr>
          <a:xfrm>
            <a:off x="2414520" y="647640"/>
            <a:ext cx="4314960" cy="26640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198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5" descr="be"/>
          <p:cNvPicPr/>
          <p:nvPr/>
        </p:nvPicPr>
        <p:blipFill>
          <a:blip r:embed="rId3"/>
          <a:stretch/>
        </p:blipFill>
        <p:spPr>
          <a:xfrm>
            <a:off x="3059280" y="3789360"/>
            <a:ext cx="3241440" cy="276696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1" name="Picture 5" descr="ghlarge[1]"/>
          <p:cNvPicPr/>
          <p:nvPr/>
        </p:nvPicPr>
        <p:blipFill>
          <a:blip r:embed="rId1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43"/>
          <p:cNvSpPr/>
          <p:nvPr/>
        </p:nvSpPr>
        <p:spPr>
          <a:xfrm>
            <a:off x="179280" y="498600"/>
            <a:ext cx="2303640" cy="5861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ug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ble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u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blan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oi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4" name="Text Box 44"/>
          <p:cNvSpPr/>
          <p:nvPr/>
        </p:nvSpPr>
        <p:spPr>
          <a:xfrm>
            <a:off x="2627280" y="476280"/>
            <a:ext cx="6337440" cy="78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ug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bleu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une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t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blanc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ccfff"/>
                </a:solidFill>
                <a:latin typeface="Comic Sans MS"/>
              </a:rPr>
              <a:t>Mon drapeau est </a:t>
            </a:r>
            <a:r>
              <a:rPr b="0" lang="en-GB" sz="4400" spc="-1" strike="noStrike">
                <a:solidFill>
                  <a:srgbClr val="191919"/>
                </a:solidFill>
                <a:latin typeface="Comic Sans MS"/>
              </a:rPr>
              <a:t>noir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2"/>
          <p:cNvSpPr/>
          <p:nvPr/>
        </p:nvSpPr>
        <p:spPr>
          <a:xfrm>
            <a:off x="-25560" y="-64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6" name="Picture 4" descr="eslarge[1]"/>
          <p:cNvPicPr/>
          <p:nvPr/>
        </p:nvPicPr>
        <p:blipFill>
          <a:blip r:embed="rId1"/>
          <a:stretch/>
        </p:blipFill>
        <p:spPr>
          <a:xfrm>
            <a:off x="2533680" y="333360"/>
            <a:ext cx="3046320" cy="20160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8" descr="1200px-Flag_of_Croatia"/>
          <p:cNvPicPr/>
          <p:nvPr/>
        </p:nvPicPr>
        <p:blipFill>
          <a:blip r:embed="rId3"/>
          <a:stretch/>
        </p:blipFill>
        <p:spPr>
          <a:xfrm>
            <a:off x="379440" y="2933640"/>
            <a:ext cx="3151080" cy="15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9" name="Picture 9" descr="eclarge"/>
          <p:cNvPicPr/>
          <p:nvPr/>
        </p:nvPicPr>
        <p:blipFill>
          <a:blip r:embed="rId4"/>
          <a:stretch/>
        </p:blipFill>
        <p:spPr>
          <a:xfrm>
            <a:off x="6045120" y="2368440"/>
            <a:ext cx="2889360" cy="1924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0" descr="ptlarge[1]"/>
          <p:cNvPicPr/>
          <p:nvPr/>
        </p:nvPicPr>
        <p:blipFill>
          <a:blip r:embed="rId5"/>
          <a:stretch/>
        </p:blipFill>
        <p:spPr>
          <a:xfrm>
            <a:off x="3132000" y="4735440"/>
            <a:ext cx="2930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2" name="Picture 5" descr="cmlarge[1]"/>
          <p:cNvPicPr/>
          <p:nvPr/>
        </p:nvPicPr>
        <p:blipFill>
          <a:blip r:embed="rId1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6" descr="ghlarge[1]"/>
          <p:cNvPicPr/>
          <p:nvPr/>
        </p:nvPicPr>
        <p:blipFill>
          <a:blip r:embed="rId2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7" descr="chilelg[1]"/>
          <p:cNvPicPr/>
          <p:nvPr/>
        </p:nvPicPr>
        <p:blipFill>
          <a:blip r:embed="rId3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dzlarge[1]"/>
          <p:cNvPicPr/>
          <p:nvPr/>
        </p:nvPicPr>
        <p:blipFill>
          <a:blip r:embed="rId5"/>
          <a:stretch/>
        </p:blipFill>
        <p:spPr>
          <a:xfrm>
            <a:off x="3564000" y="154080"/>
            <a:ext cx="309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8" name="Picture 4" descr="hnlarge[1]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1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5" descr="ba"/>
          <p:cNvPicPr/>
          <p:nvPr/>
        </p:nvPicPr>
        <p:blipFill>
          <a:blip r:embed="rId2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7" name="Picture 5" descr="england"/>
          <p:cNvPicPr/>
          <p:nvPr/>
        </p:nvPicPr>
        <p:blipFill>
          <a:blip r:embed="rId1"/>
          <a:stretch/>
        </p:blipFill>
        <p:spPr>
          <a:xfrm>
            <a:off x="755640" y="3645000"/>
            <a:ext cx="4105440" cy="246204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6" descr="grlarge[1]"/>
          <p:cNvPicPr/>
          <p:nvPr/>
        </p:nvPicPr>
        <p:blipFill>
          <a:blip r:embed="rId2"/>
          <a:stretch/>
        </p:blipFill>
        <p:spPr>
          <a:xfrm>
            <a:off x="5437080" y="1989000"/>
            <a:ext cx="3527640" cy="23432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7" descr="chlarge[1]"/>
          <p:cNvPicPr/>
          <p:nvPr/>
        </p:nvPicPr>
        <p:blipFill>
          <a:blip r:embed="rId3"/>
          <a:stretch/>
        </p:blipFill>
        <p:spPr>
          <a:xfrm>
            <a:off x="2340000" y="549360"/>
            <a:ext cx="2522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2" name="Picture 5" descr="jplarge[1]"/>
          <p:cNvPicPr/>
          <p:nvPr/>
        </p:nvPicPr>
        <p:blipFill>
          <a:blip r:embed="rId1"/>
          <a:stretch/>
        </p:blipFill>
        <p:spPr>
          <a:xfrm>
            <a:off x="1547640" y="165276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5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8" descr="costa-rica-flag"/>
          <p:cNvPicPr/>
          <p:nvPr/>
        </p:nvPicPr>
        <p:blipFill>
          <a:blip r:embed="rId5"/>
          <a:stretch/>
        </p:blipFill>
        <p:spPr>
          <a:xfrm>
            <a:off x="522360" y="4440240"/>
            <a:ext cx="297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4"/>
          <p:cNvSpPr/>
          <p:nvPr/>
        </p:nvSpPr>
        <p:spPr>
          <a:xfrm>
            <a:off x="684360" y="260280"/>
            <a:ext cx="79912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I can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describe the flags of the World Cup countries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8" name="Picture 4" descr="mxlarge[1]"/>
          <p:cNvPicPr/>
          <p:nvPr/>
        </p:nvPicPr>
        <p:blipFill>
          <a:blip r:embed="rId1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5" descr="nllarge[1]"/>
          <p:cNvPicPr/>
          <p:nvPr/>
        </p:nvPicPr>
        <p:blipFill>
          <a:blip r:embed="rId2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6" descr="nglarge[1]"/>
          <p:cNvPicPr/>
          <p:nvPr/>
        </p:nvPicPr>
        <p:blipFill>
          <a:blip r:embed="rId3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1" name="Picture 11" descr="eslarge[1]"/>
          <p:cNvPicPr/>
          <p:nvPr/>
        </p:nvPicPr>
        <p:blipFill>
          <a:blip r:embed="rId4"/>
          <a:stretch/>
        </p:blipFill>
        <p:spPr>
          <a:xfrm>
            <a:off x="2733840" y="29275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2" descr="arlarge[1]"/>
          <p:cNvPicPr/>
          <p:nvPr/>
        </p:nvPicPr>
        <p:blipFill>
          <a:blip r:embed="rId5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3" descr="cmlarge[1]"/>
          <p:cNvPicPr/>
          <p:nvPr/>
        </p:nvPicPr>
        <p:blipFill>
          <a:blip r:embed="rId6"/>
          <a:stretch/>
        </p:blipFill>
        <p:spPr>
          <a:xfrm>
            <a:off x="2489040" y="4319640"/>
            <a:ext cx="1729080" cy="11556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4" descr="cilarge[1]"/>
          <p:cNvPicPr/>
          <p:nvPr/>
        </p:nvPicPr>
        <p:blipFill>
          <a:blip r:embed="rId7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5" descr="frlarge[1]"/>
          <p:cNvPicPr/>
          <p:nvPr/>
        </p:nvPicPr>
        <p:blipFill>
          <a:blip r:embed="rId8"/>
          <a:stretch/>
        </p:blipFill>
        <p:spPr>
          <a:xfrm>
            <a:off x="2451240" y="144612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6" descr="delarge[1]"/>
          <p:cNvPicPr/>
          <p:nvPr/>
        </p:nvPicPr>
        <p:blipFill>
          <a:blip r:embed="rId9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247" name="Picture 17" descr="ghlarge[1]"/>
          <p:cNvPicPr/>
          <p:nvPr/>
        </p:nvPicPr>
        <p:blipFill>
          <a:blip r:embed="rId10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8" descr="hnlarge[1]"/>
          <p:cNvPicPr/>
          <p:nvPr/>
        </p:nvPicPr>
        <p:blipFill>
          <a:blip r:embed="rId11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9" descr="itlarge[1]"/>
          <p:cNvPicPr/>
          <p:nvPr/>
        </p:nvPicPr>
        <p:blipFill>
          <a:blip r:embed="rId12"/>
          <a:stretch/>
        </p:blipFill>
        <p:spPr>
          <a:xfrm>
            <a:off x="2232000" y="74520"/>
            <a:ext cx="1727280" cy="11448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10" descr="http://www.queenofhoxton.com/wp-content/uploads/2014/03/worldcup.jpg"/>
          <p:cNvPicPr/>
          <p:nvPr/>
        </p:nvPicPr>
        <p:blipFill>
          <a:blip r:embed="rId1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0" descr="be"/>
          <p:cNvPicPr/>
          <p:nvPr/>
        </p:nvPicPr>
        <p:blipFill>
          <a:blip r:embed="rId14"/>
          <a:stretch/>
        </p:blipFill>
        <p:spPr>
          <a:xfrm>
            <a:off x="4889520" y="2982960"/>
            <a:ext cx="1496880" cy="1278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252" name="Picture 21" descr="eclarge"/>
          <p:cNvPicPr/>
          <p:nvPr/>
        </p:nvPicPr>
        <p:blipFill>
          <a:blip r:embed="rId15"/>
          <a:stretch/>
        </p:blipFill>
        <p:spPr>
          <a:xfrm>
            <a:off x="6773760" y="3076560"/>
            <a:ext cx="1698840" cy="113184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2" descr="Colombia_flag_wallpaper"/>
          <p:cNvPicPr/>
          <p:nvPr/>
        </p:nvPicPr>
        <p:blipFill>
          <a:blip r:embed="rId16"/>
          <a:stretch/>
        </p:blipFill>
        <p:spPr>
          <a:xfrm>
            <a:off x="5189400" y="4713120"/>
            <a:ext cx="1758960" cy="117504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3" descr="1200px-Flag_of_Croatia"/>
          <p:cNvPicPr/>
          <p:nvPr/>
        </p:nvPicPr>
        <p:blipFill>
          <a:blip r:embed="rId17"/>
          <a:stretch/>
        </p:blipFill>
        <p:spPr>
          <a:xfrm>
            <a:off x="426960" y="5754600"/>
            <a:ext cx="19526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5" name="Picture 24" descr="iran-flag-126-p"/>
          <p:cNvPicPr/>
          <p:nvPr/>
        </p:nvPicPr>
        <p:blipFill>
          <a:blip r:embed="rId18"/>
          <a:stretch/>
        </p:blipFill>
        <p:spPr>
          <a:xfrm>
            <a:off x="3351240" y="5699160"/>
            <a:ext cx="17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5" descr="ru"/>
          <p:cNvPicPr/>
          <p:nvPr/>
        </p:nvPicPr>
        <p:blipFill>
          <a:blip r:embed="rId19"/>
          <a:stretch/>
        </p:blipFill>
        <p:spPr>
          <a:xfrm>
            <a:off x="7162920" y="4354560"/>
            <a:ext cx="156348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8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onac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0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8" descr="File:Flag of Monaco.svg"/>
          <p:cNvPicPr/>
          <p:nvPr/>
        </p:nvPicPr>
        <p:blipFill>
          <a:blip r:embed="rId2"/>
          <a:stretch/>
        </p:blipFill>
        <p:spPr>
          <a:xfrm>
            <a:off x="1946160" y="1343160"/>
            <a:ext cx="5310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Mal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6" name="Picture 8" descr="File:Flag of Mali.svg"/>
          <p:cNvPicPr/>
          <p:nvPr/>
        </p:nvPicPr>
        <p:blipFill>
          <a:blip r:embed="rId2"/>
          <a:stretch/>
        </p:blipFill>
        <p:spPr>
          <a:xfrm>
            <a:off x="1692360" y="1476360"/>
            <a:ext cx="59752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adagasca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1" name="Picture 8" descr="File:Flag of Madagascar.svg"/>
          <p:cNvPicPr/>
          <p:nvPr/>
        </p:nvPicPr>
        <p:blipFill>
          <a:blip r:embed="rId2"/>
          <a:stretch/>
        </p:blipFill>
        <p:spPr>
          <a:xfrm>
            <a:off x="1547640" y="1380960"/>
            <a:ext cx="6264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Sénéga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6" name="Picture 8" descr="File:Flag of Senegal.svg"/>
          <p:cNvPicPr/>
          <p:nvPr/>
        </p:nvPicPr>
        <p:blipFill>
          <a:blip r:embed="rId2"/>
          <a:stretch/>
        </p:blipFill>
        <p:spPr>
          <a:xfrm>
            <a:off x="1547640" y="1484280"/>
            <a:ext cx="6107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179280" y="57340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République Centrafrica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1" name="Picture 8" descr="File:Flag of the Central African Republic.svg"/>
          <p:cNvPicPr/>
          <p:nvPr/>
        </p:nvPicPr>
        <p:blipFill>
          <a:blip r:embed="rId2"/>
          <a:stretch/>
        </p:blipFill>
        <p:spPr>
          <a:xfrm>
            <a:off x="1547640" y="1311120"/>
            <a:ext cx="63010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Tunisi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1285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6" name="Picture 1" descr=""/>
          <p:cNvPicPr/>
          <p:nvPr/>
        </p:nvPicPr>
        <p:blipFill>
          <a:blip r:embed="rId2"/>
          <a:stretch/>
        </p:blipFill>
        <p:spPr>
          <a:xfrm>
            <a:off x="1427040" y="1363680"/>
            <a:ext cx="63849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Et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on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drapeau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C’est comment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9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1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2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3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4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6" name="Picture 8" descr="england"/>
          <p:cNvPicPr/>
          <p:nvPr/>
        </p:nvPicPr>
        <p:blipFill>
          <a:blip r:embed="rId1"/>
          <a:stretch/>
        </p:blipFill>
        <p:spPr>
          <a:xfrm>
            <a:off x="4788000" y="476280"/>
            <a:ext cx="4030560" cy="24192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9" descr="jplarge[1]"/>
          <p:cNvPicPr/>
          <p:nvPr/>
        </p:nvPicPr>
        <p:blipFill>
          <a:blip r:embed="rId2"/>
          <a:stretch/>
        </p:blipFill>
        <p:spPr>
          <a:xfrm>
            <a:off x="4402080" y="3579840"/>
            <a:ext cx="4057560" cy="27115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0" descr="chlarge[1]"/>
          <p:cNvPicPr/>
          <p:nvPr/>
        </p:nvPicPr>
        <p:blipFill>
          <a:blip r:embed="rId3"/>
          <a:stretch/>
        </p:blipFill>
        <p:spPr>
          <a:xfrm>
            <a:off x="766800" y="1563840"/>
            <a:ext cx="2868480" cy="28652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1" name="Picture 8" descr="uslarge[1]"/>
          <p:cNvPicPr/>
          <p:nvPr/>
        </p:nvPicPr>
        <p:blipFill>
          <a:blip r:embed="rId1"/>
          <a:stretch/>
        </p:blipFill>
        <p:spPr>
          <a:xfrm>
            <a:off x="2411280" y="268200"/>
            <a:ext cx="2760840" cy="14605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nllarge[1]"/>
          <p:cNvPicPr/>
          <p:nvPr/>
        </p:nvPicPr>
        <p:blipFill>
          <a:blip r:embed="rId2"/>
          <a:stretch/>
        </p:blipFill>
        <p:spPr>
          <a:xfrm>
            <a:off x="6605640" y="3537000"/>
            <a:ext cx="2317680" cy="15447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6" descr="frlarge[1]"/>
          <p:cNvPicPr/>
          <p:nvPr/>
        </p:nvPicPr>
        <p:blipFill>
          <a:blip r:embed="rId3"/>
          <a:stretch/>
        </p:blipFill>
        <p:spPr>
          <a:xfrm>
            <a:off x="6372360" y="274680"/>
            <a:ext cx="2317680" cy="154764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7" descr="chilelg[1]"/>
          <p:cNvPicPr/>
          <p:nvPr/>
        </p:nvPicPr>
        <p:blipFill>
          <a:blip r:embed="rId4"/>
          <a:stretch/>
        </p:blipFill>
        <p:spPr>
          <a:xfrm>
            <a:off x="379440" y="515772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8" descr="aularge[1]"/>
          <p:cNvPicPr/>
          <p:nvPr/>
        </p:nvPicPr>
        <p:blipFill>
          <a:blip r:embed="rId5"/>
          <a:stretch/>
        </p:blipFill>
        <p:spPr>
          <a:xfrm>
            <a:off x="4543560" y="5302080"/>
            <a:ext cx="2765160" cy="13860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0" descr="http://www.queenofhoxton.com/wp-content/uploads/2014/03/worldcup.jpg"/>
          <p:cNvPicPr/>
          <p:nvPr/>
        </p:nvPicPr>
        <p:blipFill>
          <a:blip r:embed="rId6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5" descr="ru"/>
          <p:cNvPicPr/>
          <p:nvPr/>
        </p:nvPicPr>
        <p:blipFill>
          <a:blip r:embed="rId7"/>
          <a:stretch/>
        </p:blipFill>
        <p:spPr>
          <a:xfrm>
            <a:off x="441360" y="2109960"/>
            <a:ext cx="2139840" cy="14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8" name="Picture 16" descr="1200px-Flag_of_Croatia"/>
          <p:cNvPicPr/>
          <p:nvPr/>
        </p:nvPicPr>
        <p:blipFill>
          <a:blip r:embed="rId8"/>
          <a:stretch/>
        </p:blipFill>
        <p:spPr>
          <a:xfrm>
            <a:off x="2916360" y="3662280"/>
            <a:ext cx="2598480" cy="13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9" name="Picture 17" descr="costa-rica-flag"/>
          <p:cNvPicPr/>
          <p:nvPr/>
        </p:nvPicPr>
        <p:blipFill>
          <a:blip r:embed="rId9"/>
          <a:stretch/>
        </p:blipFill>
        <p:spPr>
          <a:xfrm>
            <a:off x="4133880" y="1908000"/>
            <a:ext cx="231624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1" name="Picture 4" descr="hnlarge[1]"/>
          <p:cNvPicPr/>
          <p:nvPr/>
        </p:nvPicPr>
        <p:blipFill>
          <a:blip r:embed="rId1"/>
          <a:stretch/>
        </p:blipFill>
        <p:spPr>
          <a:xfrm>
            <a:off x="1835280" y="1122480"/>
            <a:ext cx="4248000" cy="21222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grlarge[1]"/>
          <p:cNvPicPr/>
          <p:nvPr/>
        </p:nvPicPr>
        <p:blipFill>
          <a:blip r:embed="rId2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queenofhoxton.com/wp-content/uploads/2014/03/worldcup.jpg"/>
          <p:cNvPicPr/>
          <p:nvPr/>
        </p:nvPicPr>
        <p:blipFill>
          <a:blip r:embed="rId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5" name="Picture 4" descr="ptlarge[1]"/>
          <p:cNvPicPr/>
          <p:nvPr/>
        </p:nvPicPr>
        <p:blipFill>
          <a:blip r:embed="rId1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8" name="Picture 4" descr="dzlarge[1]"/>
          <p:cNvPicPr/>
          <p:nvPr/>
        </p:nvPicPr>
        <p:blipFill>
          <a:blip r:embed="rId1"/>
          <a:stretch/>
        </p:blipFill>
        <p:spPr>
          <a:xfrm>
            <a:off x="1260360" y="1422360"/>
            <a:ext cx="3097440" cy="20606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5" descr="itlarge[1]"/>
          <p:cNvPicPr/>
          <p:nvPr/>
        </p:nvPicPr>
        <p:blipFill>
          <a:blip r:embed="rId2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mxlarge[1]"/>
          <p:cNvPicPr/>
          <p:nvPr/>
        </p:nvPicPr>
        <p:blipFill>
          <a:blip r:embed="rId3"/>
          <a:stretch/>
        </p:blipFill>
        <p:spPr>
          <a:xfrm>
            <a:off x="5192640" y="3830760"/>
            <a:ext cx="3340080" cy="20271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7" descr="iran-flag-126-p"/>
          <p:cNvPicPr/>
          <p:nvPr/>
        </p:nvPicPr>
        <p:blipFill>
          <a:blip r:embed="rId5"/>
          <a:stretch/>
        </p:blipFill>
        <p:spPr>
          <a:xfrm>
            <a:off x="866880" y="4170240"/>
            <a:ext cx="320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4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8:57:05Z</dcterms:created>
  <dc:creator>Clare</dc:creator>
  <dc:description/>
  <dc:language>en-US</dc:language>
  <cp:lastModifiedBy>Clare Seccombe</cp:lastModifiedBy>
  <dcterms:modified xsi:type="dcterms:W3CDTF">2014-05-16T13:43:07Z</dcterms:modified>
  <cp:revision>61</cp:revision>
  <dc:subject/>
  <dc:title>Slide 1</dc:title>
</cp:coreProperties>
</file>