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FFE7-3E1F-4D40-844F-48E1500F3B8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7A45-661A-42DC-AA4F-3F7940BD75F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neg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32DC-536D-4D0C-A48F-1057844048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, negra y ver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C304-AFB9-4AEE-9E5D-5FBE71D9D0F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4CB4-B966-4855-B86F-816C2A50CEF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39B5-D118-4810-B01B-309C1B147CD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estre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8A60-1AD6-47C0-9CE8-7BD7B451CA2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cinco estrel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B42E-D70B-4D29-B477-7001E8675FB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eis estrel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1B5A-9CEE-4BCA-8148-F0C45650C8A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siete estrel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C5C-D037-4DFF-AD52-334B3F3EB9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a cru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7475-E24B-487A-951F-B8C47286A3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un círcu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5932-268C-4FDB-8FAC-D12C32827A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5748-8A84-4C95-85C8-3F5A8C3E93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tiene tres franj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F460-4C0C-416A-9FC1-67685783E4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4EB1-7354-484C-820F-DEAF99A9F60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4D5F-B939-4D6E-947C-E69D03B50C2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4D3A-C45E-41D6-9C3C-8F418834A1E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862E-D00A-4F4A-BBEF-7FEBA62CE2A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7D3B-161C-4AE5-9A87-0B0925838B9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7C9C-F193-47B2-A4CE-F22DB85979A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A31F-9850-405B-AA2A-5A9A3B26AE8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7C0A-BF96-412B-828D-B488340A54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3AF9-8ACF-4D87-9559-B432852C7D7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4A38-72DD-442B-9D24-02E291BBC389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0A4-18D4-4B2D-ACB1-309C8780952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86C4-DEB9-4296-A696-8CB6AF89434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 y tiene un escu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6161-F970-4BFE-86E1-8A5D2044347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 y un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999F-D252-4DFB-8A98-73246BD70E66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amarilla y azul, y tiene un escudo, un círculo y cuatro estrel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E481-C604-43F8-86E5-D42496A1699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¿ Y tu bandera ?  ¿ Cómo 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3236-48E7-4ACA-B8FA-1169594980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blan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C72B-0975-43BA-9C70-73C596BD06E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blanca y az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E81F-7C27-4B36-9427-1132E5EF0A9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blanca y az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A580-7A13-438B-BAEE-7D42AD4794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ver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F88A-2922-46D1-AB36-809BF3FA172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, verde y blan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5216-1317-4640-9497-3E613F21AF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Mi bandera es roja y amar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39F3-1C5B-42AD-AF69-84FD04AA72F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3BE-DB99-4EDE-839E-D7463F9D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924-4008-4099-8CC7-2A56BF95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691-94D8-4AE8-A5EB-1C8B0055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98E-DC26-409E-8B2F-0E10CB3C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57A-B5ED-4879-9BC3-5D847C05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507-8E26-41C2-80CC-1BE0AFD1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C03-B104-4F52-800D-B145816E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CF5-A7C0-401C-8C8F-302A3AF6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9C3-E716-412F-B978-596EDC62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9AB-E670-401D-862A-D838392D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6D6-11A2-415E-994A-22F94404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603-8B3D-4211-A5D8-4929B37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53B1-502B-4C03-A6D6-3711AA4AB7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ghtbulblanguages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image" Target="../media/image2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31.png"/><Relationship Id="rId4" Type="http://schemas.openxmlformats.org/officeDocument/2006/relationships/image" Target="../media/image21.png"/><Relationship Id="rId5" Type="http://schemas.openxmlformats.org/officeDocument/2006/relationships/image" Target="../media/image32.png"/><Relationship Id="rId6" Type="http://schemas.openxmlformats.org/officeDocument/2006/relationships/image" Target="../media/image27.png"/><Relationship Id="rId7" Type="http://schemas.openxmlformats.org/officeDocument/2006/relationships/image" Target="../media/image33.png"/><Relationship Id="rId8" Type="http://schemas.openxmlformats.org/officeDocument/2006/relationships/image" Target="../media/image8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14.png"/><Relationship Id="rId12" Type="http://schemas.openxmlformats.org/officeDocument/2006/relationships/image" Target="../media/image18.png"/><Relationship Id="rId13" Type="http://schemas.openxmlformats.org/officeDocument/2006/relationships/image" Target="../media/image2.jpeg"/><Relationship Id="rId14" Type="http://schemas.openxmlformats.org/officeDocument/2006/relationships/image" Target="../media/image23.png"/><Relationship Id="rId15" Type="http://schemas.openxmlformats.org/officeDocument/2006/relationships/image" Target="../media/image34.jpe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jpe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220500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0" spc="-1" strike="noStrike">
                <a:solidFill>
                  <a:srgbClr val="fffff7"/>
                </a:solidFill>
                <a:latin typeface="Comic Sans MS"/>
              </a:rPr>
              <a:t>Español</a:t>
            </a:r>
            <a:endParaRPr b="0" lang="en-US" sz="1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03280" y="6512040"/>
            <a:ext cx="7596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©Light Bulb Languages 2014 CS </a:t>
            </a:r>
            <a:r>
              <a:rPr b="0" lang="en-GB" sz="800" spc="-1" strike="noStrike" u="sng">
                <a:solidFill>
                  <a:srgbClr val="ff5050"/>
                </a:solidFill>
                <a:uFillTx/>
                <a:latin typeface="Arial Rounded MT Bold"/>
                <a:hlinkClick r:id="rId1"/>
              </a:rPr>
              <a:t>http://www.lightbulblanguages.co.uk</a:t>
            </a:r>
            <a:r>
              <a:rPr b="0" lang="en-GB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4" descr="delarge[1]"/>
          <p:cNvPicPr/>
          <p:nvPr/>
        </p:nvPicPr>
        <p:blipFill>
          <a:blip r:embed="rId1"/>
          <a:stretch/>
        </p:blipFill>
        <p:spPr>
          <a:xfrm>
            <a:off x="2414520" y="647640"/>
            <a:ext cx="4314960" cy="26640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91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be"/>
          <p:cNvPicPr/>
          <p:nvPr/>
        </p:nvPicPr>
        <p:blipFill>
          <a:blip r:embed="rId3"/>
          <a:stretch/>
        </p:blipFill>
        <p:spPr>
          <a:xfrm>
            <a:off x="3059280" y="3789360"/>
            <a:ext cx="3241440" cy="276696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5" descr="ghlarge[1]"/>
          <p:cNvPicPr/>
          <p:nvPr/>
        </p:nvPicPr>
        <p:blipFill>
          <a:blip r:embed="rId1"/>
          <a:stretch/>
        </p:blipFill>
        <p:spPr>
          <a:xfrm>
            <a:off x="1692360" y="1557360"/>
            <a:ext cx="6121440" cy="408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4000" y="476280"/>
            <a:ext cx="2303280" cy="6532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lan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843280" y="476280"/>
            <a:ext cx="612144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ro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66ffff"/>
                </a:solidFill>
                <a:latin typeface="Comic Sans MS"/>
              </a:rPr>
              <a:t>az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maril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ff00"/>
                </a:solidFill>
                <a:latin typeface="Comic Sans MS"/>
              </a:rPr>
              <a:t>ver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blan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Mi bandera es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g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-25560" y="-648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4" descr="eslarge[1]"/>
          <p:cNvPicPr/>
          <p:nvPr/>
        </p:nvPicPr>
        <p:blipFill>
          <a:blip r:embed="rId1"/>
          <a:stretch/>
        </p:blipFill>
        <p:spPr>
          <a:xfrm>
            <a:off x="2533680" y="333360"/>
            <a:ext cx="304632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1200px-Flag_of_Croatia"/>
          <p:cNvPicPr/>
          <p:nvPr/>
        </p:nvPicPr>
        <p:blipFill>
          <a:blip r:embed="rId3"/>
          <a:stretch/>
        </p:blipFill>
        <p:spPr>
          <a:xfrm>
            <a:off x="379440" y="2933640"/>
            <a:ext cx="3151080" cy="15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9" descr="eclarge"/>
          <p:cNvPicPr/>
          <p:nvPr/>
        </p:nvPicPr>
        <p:blipFill>
          <a:blip r:embed="rId4"/>
          <a:stretch/>
        </p:blipFill>
        <p:spPr>
          <a:xfrm>
            <a:off x="6045120" y="2368440"/>
            <a:ext cx="2889360" cy="192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ptlarge[1]"/>
          <p:cNvPicPr/>
          <p:nvPr/>
        </p:nvPicPr>
        <p:blipFill>
          <a:blip r:embed="rId5"/>
          <a:stretch/>
        </p:blipFill>
        <p:spPr>
          <a:xfrm>
            <a:off x="3132000" y="4735440"/>
            <a:ext cx="29307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cmlarge[1]"/>
          <p:cNvPicPr/>
          <p:nvPr/>
        </p:nvPicPr>
        <p:blipFill>
          <a:blip r:embed="rId1"/>
          <a:stretch/>
        </p:blipFill>
        <p:spPr>
          <a:xfrm>
            <a:off x="468360" y="2349360"/>
            <a:ext cx="2951280" cy="197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ghlarge[1]"/>
          <p:cNvPicPr/>
          <p:nvPr/>
        </p:nvPicPr>
        <p:blipFill>
          <a:blip r:embed="rId2"/>
          <a:stretch/>
        </p:blipFill>
        <p:spPr>
          <a:xfrm>
            <a:off x="5724360" y="2708280"/>
            <a:ext cx="3024360" cy="201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hilelg[1]"/>
          <p:cNvPicPr/>
          <p:nvPr/>
        </p:nvPicPr>
        <p:blipFill>
          <a:blip r:embed="rId3"/>
          <a:stretch/>
        </p:blipFill>
        <p:spPr>
          <a:xfrm>
            <a:off x="2195640" y="4724280"/>
            <a:ext cx="2808000" cy="185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dzlarge[1]"/>
          <p:cNvPicPr/>
          <p:nvPr/>
        </p:nvPicPr>
        <p:blipFill>
          <a:blip r:embed="rId5"/>
          <a:stretch/>
        </p:blipFill>
        <p:spPr>
          <a:xfrm>
            <a:off x="3564000" y="154080"/>
            <a:ext cx="3097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4" descr="hnlarge[1]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3273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5" descr="aularge[1]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3287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ba"/>
          <p:cNvPicPr/>
          <p:nvPr/>
        </p:nvPicPr>
        <p:blipFill>
          <a:blip r:embed="rId2"/>
          <a:stretch/>
        </p:blipFill>
        <p:spPr>
          <a:xfrm>
            <a:off x="755640" y="1773360"/>
            <a:ext cx="763272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5" descr="england"/>
          <p:cNvPicPr/>
          <p:nvPr/>
        </p:nvPicPr>
        <p:blipFill>
          <a:blip r:embed="rId1"/>
          <a:stretch/>
        </p:blipFill>
        <p:spPr>
          <a:xfrm>
            <a:off x="755640" y="3645000"/>
            <a:ext cx="4105440" cy="2462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grlarge[1]"/>
          <p:cNvPicPr/>
          <p:nvPr/>
        </p:nvPicPr>
        <p:blipFill>
          <a:blip r:embed="rId2"/>
          <a:stretch/>
        </p:blipFill>
        <p:spPr>
          <a:xfrm>
            <a:off x="5437080" y="1989000"/>
            <a:ext cx="3527640" cy="2343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hlarge[1]"/>
          <p:cNvPicPr/>
          <p:nvPr/>
        </p:nvPicPr>
        <p:blipFill>
          <a:blip r:embed="rId3"/>
          <a:stretch/>
        </p:blipFill>
        <p:spPr>
          <a:xfrm>
            <a:off x="2340000" y="549360"/>
            <a:ext cx="2522520" cy="25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5" descr="jplarge[1]"/>
          <p:cNvPicPr/>
          <p:nvPr/>
        </p:nvPicPr>
        <p:blipFill>
          <a:blip r:embed="rId1"/>
          <a:stretch/>
        </p:blipFill>
        <p:spPr>
          <a:xfrm>
            <a:off x="1547640" y="1652760"/>
            <a:ext cx="3024360" cy="202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brlarge[1]"/>
          <p:cNvPicPr/>
          <p:nvPr/>
        </p:nvPicPr>
        <p:blipFill>
          <a:blip r:embed="rId2"/>
          <a:stretch/>
        </p:blipFill>
        <p:spPr>
          <a:xfrm>
            <a:off x="5508720" y="549360"/>
            <a:ext cx="3311280" cy="233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krlarge[1]"/>
          <p:cNvPicPr/>
          <p:nvPr/>
        </p:nvPicPr>
        <p:blipFill>
          <a:blip r:embed="rId3"/>
          <a:stretch/>
        </p:blipFill>
        <p:spPr>
          <a:xfrm>
            <a:off x="5219640" y="3645000"/>
            <a:ext cx="306720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sta-rica-flag"/>
          <p:cNvPicPr/>
          <p:nvPr/>
        </p:nvPicPr>
        <p:blipFill>
          <a:blip r:embed="rId5"/>
          <a:stretch/>
        </p:blipFill>
        <p:spPr>
          <a:xfrm>
            <a:off x="522360" y="4440240"/>
            <a:ext cx="2970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101080" y="6597720"/>
            <a:ext cx="1042920" cy="260280"/>
          </a:xfrm>
          <a:prstGeom prst="rect">
            <a:avLst/>
          </a:prstGeom>
          <a:solidFill>
            <a:srgbClr val="8c161e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39640" y="2351160"/>
            <a:ext cx="88203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I ca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fffff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7"/>
                </a:solidFill>
                <a:latin typeface="Comic Sans MS"/>
              </a:rPr>
              <a:t>describe the flags of the World Cup countri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4" descr="mxlarge[1]"/>
          <p:cNvPicPr/>
          <p:nvPr/>
        </p:nvPicPr>
        <p:blipFill>
          <a:blip r:embed="rId1"/>
          <a:stretch/>
        </p:blipFill>
        <p:spPr>
          <a:xfrm>
            <a:off x="7340760" y="5589720"/>
            <a:ext cx="1803240" cy="109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nllarge[1]"/>
          <p:cNvPicPr/>
          <p:nvPr/>
        </p:nvPicPr>
        <p:blipFill>
          <a:blip r:embed="rId2"/>
          <a:stretch/>
        </p:blipFill>
        <p:spPr>
          <a:xfrm>
            <a:off x="7236000" y="333360"/>
            <a:ext cx="1670040" cy="1112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nglarge[1]"/>
          <p:cNvPicPr/>
          <p:nvPr/>
        </p:nvPicPr>
        <p:blipFill>
          <a:blip r:embed="rId3"/>
          <a:stretch/>
        </p:blipFill>
        <p:spPr>
          <a:xfrm>
            <a:off x="6948360" y="1773360"/>
            <a:ext cx="2016360" cy="10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11" descr="eslarge[1]"/>
          <p:cNvPicPr/>
          <p:nvPr/>
        </p:nvPicPr>
        <p:blipFill>
          <a:blip r:embed="rId4"/>
          <a:stretch/>
        </p:blipFill>
        <p:spPr>
          <a:xfrm>
            <a:off x="2733840" y="2927520"/>
            <a:ext cx="1763640" cy="11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arlarge[1]"/>
          <p:cNvPicPr/>
          <p:nvPr/>
        </p:nvPicPr>
        <p:blipFill>
          <a:blip r:embed="rId5"/>
          <a:stretch/>
        </p:blipFill>
        <p:spPr>
          <a:xfrm>
            <a:off x="5076720" y="170028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cmlarge[1]"/>
          <p:cNvPicPr/>
          <p:nvPr/>
        </p:nvPicPr>
        <p:blipFill>
          <a:blip r:embed="rId6"/>
          <a:stretch/>
        </p:blipFill>
        <p:spPr>
          <a:xfrm>
            <a:off x="2489040" y="4319640"/>
            <a:ext cx="1729080" cy="1155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ilarge[1]"/>
          <p:cNvPicPr/>
          <p:nvPr/>
        </p:nvPicPr>
        <p:blipFill>
          <a:blip r:embed="rId7"/>
          <a:stretch/>
        </p:blipFill>
        <p:spPr>
          <a:xfrm>
            <a:off x="179280" y="4437000"/>
            <a:ext cx="1657440" cy="109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frlarge[1]"/>
          <p:cNvPicPr/>
          <p:nvPr/>
        </p:nvPicPr>
        <p:blipFill>
          <a:blip r:embed="rId8"/>
          <a:stretch/>
        </p:blipFill>
        <p:spPr>
          <a:xfrm>
            <a:off x="2451240" y="144612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delarge[1]"/>
          <p:cNvPicPr/>
          <p:nvPr/>
        </p:nvPicPr>
        <p:blipFill>
          <a:blip r:embed="rId9"/>
          <a:stretch/>
        </p:blipFill>
        <p:spPr>
          <a:xfrm>
            <a:off x="468360" y="3068640"/>
            <a:ext cx="1871640" cy="1155600"/>
          </a:xfrm>
          <a:prstGeom prst="rect">
            <a:avLst/>
          </a:prstGeom>
          <a:ln w="9360">
            <a:solidFill>
              <a:srgbClr val="ffffd9"/>
            </a:solidFill>
            <a:miter/>
          </a:ln>
        </p:spPr>
      </p:pic>
      <p:pic>
        <p:nvPicPr>
          <p:cNvPr id="141" name="Picture 17" descr="ghlarge[1]"/>
          <p:cNvPicPr/>
          <p:nvPr/>
        </p:nvPicPr>
        <p:blipFill>
          <a:blip r:embed="rId10"/>
          <a:stretch/>
        </p:blipFill>
        <p:spPr>
          <a:xfrm>
            <a:off x="250920" y="1557360"/>
            <a:ext cx="1800000" cy="1201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hnlarge[1]"/>
          <p:cNvPicPr/>
          <p:nvPr/>
        </p:nvPicPr>
        <p:blipFill>
          <a:blip r:embed="rId11"/>
          <a:stretch/>
        </p:blipFill>
        <p:spPr>
          <a:xfrm>
            <a:off x="4788000" y="260280"/>
            <a:ext cx="2160360" cy="107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itlarge[1]"/>
          <p:cNvPicPr/>
          <p:nvPr/>
        </p:nvPicPr>
        <p:blipFill>
          <a:blip r:embed="rId12"/>
          <a:stretch/>
        </p:blipFill>
        <p:spPr>
          <a:xfrm>
            <a:off x="2232000" y="74520"/>
            <a:ext cx="1727280" cy="114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http://www.queenofhoxton.com/wp-content/uploads/2014/03/worldcup.jpg"/>
          <p:cNvPicPr/>
          <p:nvPr/>
        </p:nvPicPr>
        <p:blipFill>
          <a:blip r:embed="rId13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" descr="be"/>
          <p:cNvPicPr/>
          <p:nvPr/>
        </p:nvPicPr>
        <p:blipFill>
          <a:blip r:embed="rId14"/>
          <a:stretch/>
        </p:blipFill>
        <p:spPr>
          <a:xfrm>
            <a:off x="4889520" y="2982960"/>
            <a:ext cx="1496880" cy="1278000"/>
          </a:xfrm>
          <a:prstGeom prst="rect">
            <a:avLst/>
          </a:prstGeom>
          <a:ln w="9360">
            <a:solidFill>
              <a:srgbClr val="fffffa"/>
            </a:solidFill>
            <a:miter/>
          </a:ln>
        </p:spPr>
      </p:pic>
      <p:pic>
        <p:nvPicPr>
          <p:cNvPr id="146" name="Picture 21" descr="eclarge"/>
          <p:cNvPicPr/>
          <p:nvPr/>
        </p:nvPicPr>
        <p:blipFill>
          <a:blip r:embed="rId15"/>
          <a:stretch/>
        </p:blipFill>
        <p:spPr>
          <a:xfrm>
            <a:off x="6773760" y="3076560"/>
            <a:ext cx="1698840" cy="1131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Colombia_flag_wallpaper"/>
          <p:cNvPicPr/>
          <p:nvPr/>
        </p:nvPicPr>
        <p:blipFill>
          <a:blip r:embed="rId16"/>
          <a:stretch/>
        </p:blipFill>
        <p:spPr>
          <a:xfrm>
            <a:off x="5189400" y="4713120"/>
            <a:ext cx="1758960" cy="117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1200px-Flag_of_Croatia"/>
          <p:cNvPicPr/>
          <p:nvPr/>
        </p:nvPicPr>
        <p:blipFill>
          <a:blip r:embed="rId17"/>
          <a:stretch/>
        </p:blipFill>
        <p:spPr>
          <a:xfrm>
            <a:off x="426960" y="5754600"/>
            <a:ext cx="1952640" cy="97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Picture 24" descr="iran-flag-126-p"/>
          <p:cNvPicPr/>
          <p:nvPr/>
        </p:nvPicPr>
        <p:blipFill>
          <a:blip r:embed="rId18"/>
          <a:stretch/>
        </p:blipFill>
        <p:spPr>
          <a:xfrm>
            <a:off x="3351240" y="5699160"/>
            <a:ext cx="1738440" cy="108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ru"/>
          <p:cNvPicPr/>
          <p:nvPr/>
        </p:nvPicPr>
        <p:blipFill>
          <a:blip r:embed="rId19"/>
          <a:stretch/>
        </p:blipFill>
        <p:spPr>
          <a:xfrm>
            <a:off x="7162920" y="4354560"/>
            <a:ext cx="1563480" cy="10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el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6" descr="Belize Flag – Flag of Belize"/>
          <p:cNvPicPr/>
          <p:nvPr/>
        </p:nvPicPr>
        <p:blipFill>
          <a:blip r:embed="rId1"/>
          <a:stretch/>
        </p:blipFill>
        <p:spPr>
          <a:xfrm>
            <a:off x="1476360" y="1484280"/>
            <a:ext cx="62658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Boliv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bolarge"/>
          <p:cNvPicPr/>
          <p:nvPr/>
        </p:nvPicPr>
        <p:blipFill>
          <a:blip r:embed="rId1"/>
          <a:stretch/>
        </p:blipFill>
        <p:spPr>
          <a:xfrm>
            <a:off x="1547640" y="1484280"/>
            <a:ext cx="6193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Costa R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Flag of Costa Rica"/>
          <p:cNvPicPr/>
          <p:nvPr/>
        </p:nvPicPr>
        <p:blipFill>
          <a:blip r:embed="rId1"/>
          <a:stretch/>
        </p:blipFill>
        <p:spPr>
          <a:xfrm>
            <a:off x="1403280" y="1484280"/>
            <a:ext cx="64087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476360" y="573408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República Dominica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Dominican Republic Flag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Ecuad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6" descr="Flag of Ecuador, Ecuadorian Flag"/>
          <p:cNvPicPr/>
          <p:nvPr/>
        </p:nvPicPr>
        <p:blipFill>
          <a:blip r:embed="rId1"/>
          <a:stretch/>
        </p:blipFill>
        <p:spPr>
          <a:xfrm>
            <a:off x="971640" y="1557360"/>
            <a:ext cx="72723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anam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6" descr="Flag of Panama"/>
          <p:cNvPicPr/>
          <p:nvPr/>
        </p:nvPicPr>
        <p:blipFill>
          <a:blip r:embed="rId1"/>
          <a:stretch/>
        </p:blipFill>
        <p:spPr>
          <a:xfrm>
            <a:off x="1547640" y="1557360"/>
            <a:ext cx="6048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Puerto R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Puerto Rican Flag, Flag of Puerto Rico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7"/>
                </a:solidFill>
                <a:latin typeface="Arial Black"/>
              </a:rPr>
              <a:t>¿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835280" y="57340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7"/>
                </a:solidFill>
                <a:latin typeface="Comic Sans MS"/>
              </a:rPr>
              <a:t>Venezue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6" descr="Flag of Venezuela, Venezuelan Flag"/>
          <p:cNvPicPr/>
          <p:nvPr/>
        </p:nvPicPr>
        <p:blipFill>
          <a:blip r:embed="rId1"/>
          <a:stretch/>
        </p:blipFill>
        <p:spPr>
          <a:xfrm>
            <a:off x="1619280" y="1557360"/>
            <a:ext cx="61196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195640" y="1916280"/>
            <a:ext cx="5616360" cy="33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Oval 8"/>
          <p:cNvSpPr/>
          <p:nvPr/>
        </p:nvSpPr>
        <p:spPr>
          <a:xfrm>
            <a:off x="1547640" y="1484280"/>
            <a:ext cx="865440" cy="358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835280" y="1773360"/>
            <a:ext cx="288720" cy="49687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http://www.queenofhoxton.com/wp-content/uploads/2014/03/worldcup.jpg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700360" y="1052640"/>
            <a:ext cx="597528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1979640" y="476280"/>
            <a:ext cx="107964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2340000" y="907920"/>
            <a:ext cx="289080" cy="59500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651640" y="1052640"/>
            <a:ext cx="3024000" cy="36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700360" y="2852640"/>
            <a:ext cx="5975280" cy="187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AutoShape 9"/>
          <p:cNvSpPr/>
          <p:nvPr/>
        </p:nvSpPr>
        <p:spPr>
          <a:xfrm rot="5400000">
            <a:off x="4426560" y="1918440"/>
            <a:ext cx="2305080" cy="1582560"/>
          </a:xfrm>
          <a:prstGeom prst="flowChartDelay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5003640" y="1989000"/>
            <a:ext cx="1150920" cy="1152720"/>
          </a:xfrm>
          <a:prstGeom prst="flowChartConnector">
            <a:avLst/>
          </a:pr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305928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12"/>
          <p:cNvSpPr/>
          <p:nvPr/>
        </p:nvSpPr>
        <p:spPr>
          <a:xfrm>
            <a:off x="370836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6588000" y="3500280"/>
            <a:ext cx="792360" cy="792360"/>
          </a:xfrm>
          <a:custGeom>
            <a:avLst/>
            <a:gdLst/>
            <a:ahLst/>
            <a:rect l="l" t="t" r="r" b="b"/>
            <a:pathLst>
              <a:path w="792163" h="792162">
                <a:moveTo>
                  <a:pt x="1" y="302578"/>
                </a:moveTo>
                <a:lnTo>
                  <a:pt x="302581" y="302580"/>
                </a:lnTo>
                <a:lnTo>
                  <a:pt x="396082" y="0"/>
                </a:lnTo>
                <a:lnTo>
                  <a:pt x="489582" y="302580"/>
                </a:lnTo>
                <a:lnTo>
                  <a:pt x="792162" y="302578"/>
                </a:lnTo>
                <a:lnTo>
                  <a:pt x="547368" y="489581"/>
                </a:lnTo>
                <a:lnTo>
                  <a:pt x="640873" y="792160"/>
                </a:lnTo>
                <a:lnTo>
                  <a:pt x="396082" y="605154"/>
                </a:lnTo>
                <a:lnTo>
                  <a:pt x="151290" y="792160"/>
                </a:lnTo>
                <a:lnTo>
                  <a:pt x="244795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7596360" y="2421000"/>
            <a:ext cx="792000" cy="792000"/>
          </a:xfrm>
          <a:custGeom>
            <a:avLst/>
            <a:gdLst/>
            <a:ahLst/>
            <a:rect l="l" t="t" r="r" b="b"/>
            <a:pathLst>
              <a:path w="792162" h="792162">
                <a:moveTo>
                  <a:pt x="1" y="302578"/>
                </a:moveTo>
                <a:lnTo>
                  <a:pt x="302581" y="302580"/>
                </a:lnTo>
                <a:lnTo>
                  <a:pt x="396081" y="0"/>
                </a:lnTo>
                <a:lnTo>
                  <a:pt x="489581" y="302580"/>
                </a:lnTo>
                <a:lnTo>
                  <a:pt x="792161" y="302578"/>
                </a:lnTo>
                <a:lnTo>
                  <a:pt x="547368" y="489581"/>
                </a:lnTo>
                <a:lnTo>
                  <a:pt x="640872" y="792160"/>
                </a:lnTo>
                <a:lnTo>
                  <a:pt x="396081" y="605154"/>
                </a:lnTo>
                <a:lnTo>
                  <a:pt x="151290" y="792160"/>
                </a:lnTo>
                <a:lnTo>
                  <a:pt x="244794" y="489581"/>
                </a:lnTo>
                <a:lnTo>
                  <a:pt x="1" y="302578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62864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Comic Sans MS"/>
              </a:rPr>
              <a:t>¿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Y </a:t>
            </a:r>
            <a:r>
              <a:rPr b="1" lang="en-GB" sz="7200" spc="-1" strike="noStrike">
                <a:solidFill>
                  <a:srgbClr val="66ffff"/>
                </a:solidFill>
                <a:latin typeface="Arial Black"/>
              </a:rPr>
              <a:t>tu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bandera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d9"/>
                </a:solidFill>
                <a:latin typeface="Comic Sans MS"/>
              </a:rPr>
              <a:t>¿</a:t>
            </a:r>
            <a:r>
              <a:rPr b="1" lang="en-GB" sz="7200" spc="-1" strike="noStrike">
                <a:solidFill>
                  <a:srgbClr val="ffffd9"/>
                </a:solidFill>
                <a:latin typeface="Arial Black"/>
              </a:rPr>
              <a:t> Cómo es 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8" descr="england"/>
          <p:cNvPicPr/>
          <p:nvPr/>
        </p:nvPicPr>
        <p:blipFill>
          <a:blip r:embed="rId1"/>
          <a:stretch/>
        </p:blipFill>
        <p:spPr>
          <a:xfrm>
            <a:off x="4788000" y="476280"/>
            <a:ext cx="4030560" cy="24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jplarge[1]"/>
          <p:cNvPicPr/>
          <p:nvPr/>
        </p:nvPicPr>
        <p:blipFill>
          <a:blip r:embed="rId2"/>
          <a:stretch/>
        </p:blipFill>
        <p:spPr>
          <a:xfrm>
            <a:off x="4402080" y="3579840"/>
            <a:ext cx="4057560" cy="2711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hlarge[1]"/>
          <p:cNvPicPr/>
          <p:nvPr/>
        </p:nvPicPr>
        <p:blipFill>
          <a:blip r:embed="rId3"/>
          <a:stretch/>
        </p:blipFill>
        <p:spPr>
          <a:xfrm>
            <a:off x="766800" y="1563840"/>
            <a:ext cx="2868480" cy="2865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8" descr="uslarge[1]"/>
          <p:cNvPicPr/>
          <p:nvPr/>
        </p:nvPicPr>
        <p:blipFill>
          <a:blip r:embed="rId1"/>
          <a:stretch/>
        </p:blipFill>
        <p:spPr>
          <a:xfrm>
            <a:off x="2411280" y="268200"/>
            <a:ext cx="2760840" cy="14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nllarge[1]"/>
          <p:cNvPicPr/>
          <p:nvPr/>
        </p:nvPicPr>
        <p:blipFill>
          <a:blip r:embed="rId2"/>
          <a:stretch/>
        </p:blipFill>
        <p:spPr>
          <a:xfrm>
            <a:off x="6605640" y="3537000"/>
            <a:ext cx="2317680" cy="15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frlarge[1]"/>
          <p:cNvPicPr/>
          <p:nvPr/>
        </p:nvPicPr>
        <p:blipFill>
          <a:blip r:embed="rId3"/>
          <a:stretch/>
        </p:blipFill>
        <p:spPr>
          <a:xfrm>
            <a:off x="6372360" y="274680"/>
            <a:ext cx="2317680" cy="1547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chilelg[1]"/>
          <p:cNvPicPr/>
          <p:nvPr/>
        </p:nvPicPr>
        <p:blipFill>
          <a:blip r:embed="rId4"/>
          <a:stretch/>
        </p:blipFill>
        <p:spPr>
          <a:xfrm>
            <a:off x="379440" y="5157720"/>
            <a:ext cx="2232000" cy="14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aularge[1]"/>
          <p:cNvPicPr/>
          <p:nvPr/>
        </p:nvPicPr>
        <p:blipFill>
          <a:blip r:embed="rId5"/>
          <a:stretch/>
        </p:blipFill>
        <p:spPr>
          <a:xfrm>
            <a:off x="4543560" y="5302080"/>
            <a:ext cx="2765160" cy="13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queenofhoxton.com/wp-content/uploads/2014/03/worldcup.jpg"/>
          <p:cNvPicPr/>
          <p:nvPr/>
        </p:nvPicPr>
        <p:blipFill>
          <a:blip r:embed="rId6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ru"/>
          <p:cNvPicPr/>
          <p:nvPr/>
        </p:nvPicPr>
        <p:blipFill>
          <a:blip r:embed="rId7"/>
          <a:stretch/>
        </p:blipFill>
        <p:spPr>
          <a:xfrm>
            <a:off x="441360" y="2109960"/>
            <a:ext cx="2139840" cy="142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16" descr="1200px-Flag_of_Croatia"/>
          <p:cNvPicPr/>
          <p:nvPr/>
        </p:nvPicPr>
        <p:blipFill>
          <a:blip r:embed="rId8"/>
          <a:stretch/>
        </p:blipFill>
        <p:spPr>
          <a:xfrm>
            <a:off x="2916360" y="3662280"/>
            <a:ext cx="2598480" cy="13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7" descr="costa-rica-flag"/>
          <p:cNvPicPr/>
          <p:nvPr/>
        </p:nvPicPr>
        <p:blipFill>
          <a:blip r:embed="rId9"/>
          <a:stretch/>
        </p:blipFill>
        <p:spPr>
          <a:xfrm>
            <a:off x="4133880" y="1908000"/>
            <a:ext cx="231624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4" descr="hnlarge[1]"/>
          <p:cNvPicPr/>
          <p:nvPr/>
        </p:nvPicPr>
        <p:blipFill>
          <a:blip r:embed="rId1"/>
          <a:stretch/>
        </p:blipFill>
        <p:spPr>
          <a:xfrm>
            <a:off x="1835280" y="1122480"/>
            <a:ext cx="4248000" cy="212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grlarge[1]"/>
          <p:cNvPicPr/>
          <p:nvPr/>
        </p:nvPicPr>
        <p:blipFill>
          <a:blip r:embed="rId2"/>
          <a:stretch/>
        </p:blipFill>
        <p:spPr>
          <a:xfrm>
            <a:off x="3780000" y="4076640"/>
            <a:ext cx="3456000" cy="2297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www.queenofhoxton.com/wp-content/uploads/2014/03/worldcup.jpg"/>
          <p:cNvPicPr/>
          <p:nvPr/>
        </p:nvPicPr>
        <p:blipFill>
          <a:blip r:embed="rId3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ptlarge[1]"/>
          <p:cNvPicPr/>
          <p:nvPr/>
        </p:nvPicPr>
        <p:blipFill>
          <a:blip r:embed="rId1"/>
          <a:stretch/>
        </p:blipFill>
        <p:spPr>
          <a:xfrm>
            <a:off x="2411280" y="1989000"/>
            <a:ext cx="4465800" cy="294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4" descr="dzlarge[1]"/>
          <p:cNvPicPr/>
          <p:nvPr/>
        </p:nvPicPr>
        <p:blipFill>
          <a:blip r:embed="rId1"/>
          <a:stretch/>
        </p:blipFill>
        <p:spPr>
          <a:xfrm>
            <a:off x="1260360" y="1422360"/>
            <a:ext cx="309744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itlarge[1]"/>
          <p:cNvPicPr/>
          <p:nvPr/>
        </p:nvPicPr>
        <p:blipFill>
          <a:blip r:embed="rId2"/>
          <a:stretch/>
        </p:blipFill>
        <p:spPr>
          <a:xfrm>
            <a:off x="5219640" y="765000"/>
            <a:ext cx="3097440" cy="205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mxlarge[1]"/>
          <p:cNvPicPr/>
          <p:nvPr/>
        </p:nvPicPr>
        <p:blipFill>
          <a:blip r:embed="rId3"/>
          <a:stretch/>
        </p:blipFill>
        <p:spPr>
          <a:xfrm>
            <a:off x="5192640" y="3830760"/>
            <a:ext cx="3340080" cy="2027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://www.queenofhoxton.com/wp-content/uploads/2014/03/worldcup.jpg"/>
          <p:cNvPicPr/>
          <p:nvPr/>
        </p:nvPicPr>
        <p:blipFill>
          <a:blip r:embed="rId4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ran-flag-126-p"/>
          <p:cNvPicPr/>
          <p:nvPr/>
        </p:nvPicPr>
        <p:blipFill>
          <a:blip r:embed="rId5"/>
          <a:stretch/>
        </p:blipFill>
        <p:spPr>
          <a:xfrm>
            <a:off x="866880" y="4170240"/>
            <a:ext cx="32018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8c1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4" descr="eslarge[1]"/>
          <p:cNvPicPr/>
          <p:nvPr/>
        </p:nvPicPr>
        <p:blipFill>
          <a:blip r:embed="rId1"/>
          <a:stretch/>
        </p:blipFill>
        <p:spPr>
          <a:xfrm>
            <a:off x="2124000" y="1844640"/>
            <a:ext cx="4824360" cy="319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http://www.queenofhoxton.com/wp-content/uploads/2014/03/worldcup.jpg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Clare Seccombe</cp:lastModifiedBy>
  <dcterms:modified xsi:type="dcterms:W3CDTF">2014-04-24T18:50:42Z</dcterms:modified>
  <cp:revision>217</cp:revision>
  <dc:subject/>
  <dc:title>TITLE</dc:title>
</cp:coreProperties>
</file>