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48E-E71A-46E1-96E1-82E5EEEE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0D3-2583-44B4-9B55-8B1CEA86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A9E-1DAB-4853-B130-F58A10CB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681-3D44-448B-8B21-EE20F957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05F-E662-41FC-A513-D576E638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DC8-F94F-43DF-8800-8D64F4E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463-7043-4A46-A9D8-FB38818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D5C-7227-4FF2-ABC0-076FC1F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B54-9317-4067-A489-F69046B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CE6-15DC-4A9B-8E9E-92D74F5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78D-8263-4A00-8DAC-DF39EE7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107-1F28-4B45-B8E7-58C4108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5052-5D71-4F20-A52E-50B35DB8B0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hyperlink" Target="https://www.google.co.uk/url?q=http://en.wikipedia.org/wiki/2014_FIFA_World_Cup&amp;sa=U&amp;ei=oa-FU8K9IsGZPZ3vgOAH&amp;ved=0CDAQ9QEwAA&amp;sig2=rtci-TVJI6kt5GPo2MkEuA&amp;usg=AFQjCNFJdZbHS3NCt0PE4u6sIbcOkCvj1A" TargetMode="External"/><Relationship Id="rId29" Type="http://schemas.openxmlformats.org/officeDocument/2006/relationships/image" Target="../media/image16.jpeg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image" Target="../media/image16.jpeg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Explosion 1 40"/>
          <p:cNvGrpSpPr/>
          <p:nvPr/>
        </p:nvGrpSpPr>
        <p:grpSpPr>
          <a:xfrm>
            <a:off x="1225440" y="3676680"/>
            <a:ext cx="8259840" cy="2327400"/>
            <a:chOff x="1225440" y="3676680"/>
            <a:chExt cx="8259840" cy="2327400"/>
          </a:xfrm>
        </p:grpSpPr>
        <p:pic>
          <p:nvPicPr>
            <p:cNvPr id="46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25440" y="3676680"/>
              <a:ext cx="825984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030480" y="4362480"/>
              <a:ext cx="45529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v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14200" y="242892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elon mo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Je pense qu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République de C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1785960" y="5500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Bré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3214800" y="5429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1"/>
          <p:cNvSpPr/>
          <p:nvPr/>
        </p:nvSpPr>
        <p:spPr>
          <a:xfrm>
            <a:off x="4643280" y="5500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ustr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2"/>
          <p:cNvSpPr/>
          <p:nvPr/>
        </p:nvSpPr>
        <p:spPr>
          <a:xfrm>
            <a:off x="6234120" y="5429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g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7500960" y="5500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rg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3143160" y="857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621504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7858080" y="857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gagner la coupe du mon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7143840" y="142884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ui, je sui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n, je ne suis pa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https://encrypted-tbn1.gstatic.com/images?q=tbn:ANd9GcST04gNuvUXt2TtgRDmkInUZ-9USERfnqYal-vJH9K8p4OjSCI9KN_g-Xo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0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Explosion 1 40"/>
          <p:cNvGrpSpPr/>
          <p:nvPr/>
        </p:nvGrpSpPr>
        <p:grpSpPr>
          <a:xfrm>
            <a:off x="1225440" y="3676680"/>
            <a:ext cx="8259840" cy="2327400"/>
            <a:chOff x="1225440" y="3676680"/>
            <a:chExt cx="8259840" cy="2327400"/>
          </a:xfrm>
        </p:grpSpPr>
        <p:pic>
          <p:nvPicPr>
            <p:cNvPr id="88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25440" y="3676680"/>
              <a:ext cx="825984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030480" y="4362480"/>
              <a:ext cx="45529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v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214200" y="242892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elon mo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Je pense qu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République de C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1785960" y="5500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Bré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3214800" y="5429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643280" y="5500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ustr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234120" y="5429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g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7500960" y="5500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rg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3143160" y="857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621504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7858080" y="857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’It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gagner le m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7143840" y="142884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ui, je sui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n, je ne suis pas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https://encrypted-tbn1.gstatic.com/images?q=tbn:ANd9GcST04gNuvUXt2TtgRDmkInUZ-9USERfnqYal-vJH9K8p4OjSCI9KN_g-Xo"/>
          <p:cNvPicPr/>
          <p:nvPr/>
        </p:nvPicPr>
        <p:blipFill>
          <a:blip r:embed="rId28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9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0:05Z</dcterms:created>
  <dc:creator>sghani</dc:creator>
  <dc:description/>
  <dc:language>en-US</dc:language>
  <cp:lastModifiedBy>Clare Seccombe</cp:lastModifiedBy>
  <dcterms:modified xsi:type="dcterms:W3CDTF">2014-05-30T11:58:26Z</dcterms:modified>
  <cp:revision>11</cp:revision>
  <dc:subject/>
  <dc:title>Slide 1</dc:title>
</cp:coreProperties>
</file>