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explode.wav" ContentType="audio/x-wav"/>
  <Override PartName="/ppt/media/image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DCA-171B-4C99-AE4A-F31082E6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5D9-951E-4DA0-8B00-6F405BD3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6DC-016F-4517-B3F3-68D0997D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C61-2A0D-4BDC-924F-80D3E92E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231-F9CE-49FC-8CB0-EE58B8DB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8334-487F-49D8-A563-845DC930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F44-FE24-4248-92A4-3139FA12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504-F1B9-4955-BE17-6DC7AC13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7F3-BD38-43B5-9341-7F6A6677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98E4-D97D-4619-822D-E2AE390A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5A6-AF54-4FF6-85C8-91ACF83C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AAB-A8AB-43A5-9321-39FE0782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47FF-99CD-40BC-9F9F-AD59C3D7DDE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p.greenwichmeantime.com/time-zone/europe/uk/images/england-flag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pre-host.com/porosia/whois/images/french-flag.pn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.uk/imgres?imgurl=http://www.pre-host.com/porosia/whois/images/german-flag.JPG&amp;imgrefurl=http://www.pre-host.com/porosia/whois/images/&amp;usg=__eAye0AxnCp10eVbXS5CwfqYVztY=&amp;h=366&amp;w=606&amp;sz=6&amp;hl=en&amp;start=1&amp;sig2=XZ8eGkZ9hhKGNJOGhc5TqA&amp;itbs=1&amp;tbnid=X_KmT0Z10cBvCM:&amp;tbnh=82&amp;tbnw=136&amp;prev=/images?q=german+flag&amp;hl=en&amp;gbv=2&amp;tbs=isch:1&amp;ei=CAoFTM2aHIbWmgPC3omJDA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www.google.co.uk/imgres?imgurl=http://www.donquijote.org/culture/spain/history/images/spanish_flag2.jpg&amp;imgrefurl=http://www.donquijote.org/culture/spain/history/flag.asp&amp;usg=__EezuqB3rXzLlCiRrElUkVR1mY5M=&amp;h=369&amp;w=600&amp;sz=25&amp;hl=en&amp;start=1&amp;sig2=8eATwMkG6SGhoYVO9vphCQ&amp;itbs=1&amp;tbnid=ZlyKoGuzsag35M:&amp;tbnh=83&amp;tbnw=135&amp;prev=/images?q=spanishflag&amp;hl=en&amp;gbv=2&amp;tbs=isch:1&amp;ei=IgoFTJyABKKImwPTn-2TAQ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google.co.uk/imgres?imgurl=http://www2.ohchr.org/english/bodies/images/Flags/prt.gif&amp;imgrefurl=http://www2.ohchr.org/english/bodies/cedaw/cedaws42.htm&amp;usg=__TyPGY_t6s08zkXfP3MmrBHxvla8=&amp;h=288&amp;w=432&amp;sz=10&amp;hl=en&amp;start=1&amp;sig2=enW9GcXDvRK9bHzVHpZiNA&amp;itbs=1&amp;tbnid=7pWuBkV5Ky0vxM:&amp;tbnh=84&amp;tbnw=126&amp;prev=/images?q=portuguese+flag&amp;hl=en&amp;gbv=2&amp;tbs=isch:1&amp;ei=QAoFTI2jDIrAmQOWoYTiAg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www.google.co.uk/imgres?imgurl=http://www.appliedlanguage.com/flags_of_the_world/large_flag_of_brazil.gif&amp;imgrefurl=http://www.appliedlanguage.com/flags_of_the_world/flag_of_brazil.shtml&amp;usg=__T5TBEXImx_CLZqO7TDSSAheHDRg=&amp;h=302&amp;w=429&amp;sz=7&amp;hl=en&amp;start=1&amp;sig2=d7FJVgFPUF0pSuoo9xq7LQ&amp;itbs=1&amp;tbnid=M6RVlmU1f5J9lM:&amp;tbnh=89&amp;tbnw=126&amp;prev=/images?q=brazilian+flag&amp;hl=en&amp;gbv=2&amp;tbs=isch:1&amp;ei=3AoFTKW7IYvgmAOQ6fmpDA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www.google.co.uk/imgres?imgurl=http://www.mpressrecords.com/emailimages/Japan%20flag.gif&amp;imgrefurl=http://www.mpressrecords.com/RSNewsletters/nov07/news.html&amp;usg=__V5geYf249o_Z0o5rJ-DPkAlSXQM=&amp;h=351&amp;w=497&amp;sz=4&amp;hl=en&amp;start=1&amp;sig2=Q3iYC7A5d2XwnLKYniQ2mw&amp;itbs=1&amp;tbnid=OznrQ3RZGli_eM:&amp;tbnh=92&amp;tbnw=130&amp;prev=/images?q=japanese+flag&amp;hl=en&amp;gbv=2&amp;tbs=isch:1&amp;ei=IQsFTJjjNJOanwP0vMCoDA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www.google.co.uk/imgres?imgurl=http://tizona.files.wordpress.com/2008/01/australian-flag.jpg&amp;imgrefurl=http://tizona.wordpress.com/2008/01/25/&amp;usg=__wesvGYDuDNx5zPD1h1knjF9k9g8=&amp;h=591&amp;w=886&amp;sz=34&amp;hl=en&amp;start=1&amp;sig2=dQyImUBhb9mr7uiX-U5KvA&amp;itbs=1&amp;tbnid=01GVy0qR8Bj9EM:&amp;tbnh=97&amp;tbnw=146&amp;prev=/images?q=australian+flag&amp;hl=en&amp;gbv=2&amp;tbs=isch:1&amp;ei=OgsFTM7aIJSimwOy6O2aDA" TargetMode="External"/><Relationship Id="rId18" Type="http://schemas.openxmlformats.org/officeDocument/2006/relationships/image" Target="../media/image10.jpeg"/><Relationship Id="rId19" Type="http://schemas.openxmlformats.org/officeDocument/2006/relationships/hyperlink" Target="http://www.google.co.uk/imgres?imgurl=http://www.travelblog.org/World/flags/ag-lgflag.gif&amp;imgrefurl=http://www.travelblog.org/World/ag-flag2.html&amp;usg=__G1V43vCVe_K1odpaCO8VO5a-4XE=&amp;h=302&amp;w=457&amp;sz=4&amp;hl=en&amp;start=1&amp;sig2=l-736K1R4nuIi9TOxkEGWw&amp;itbs=1&amp;tbnid=jfL3BNwL7bpKRM:&amp;tbnh=85&amp;tbnw=128&amp;prev=/images?q=algerianflag&amp;hl=en&amp;gbv=2&amp;tbs=isch:1&amp;ei=egsFTKD7LqGkmwPsl_HFAw" TargetMode="External"/><Relationship Id="rId20" Type="http://schemas.openxmlformats.org/officeDocument/2006/relationships/image" Target="../media/image11.jpeg"/><Relationship Id="rId21" Type="http://schemas.openxmlformats.org/officeDocument/2006/relationships/hyperlink" Target="http://www.google.co.uk/imgres?imgurl=http://aworldofrecipes.net/countries/italy/italiansausagelasagna/italian-flag.gif&amp;imgrefurl=http://aworldofrecipes.net/countries/italy/italiansausagelasagna/&amp;usg=__f_GOv33VBGbZ-PNKo89Afaact8E=&amp;h=300&amp;w=450&amp;sz=3&amp;hl=en&amp;start=1&amp;sig2=uazXjDxsYOQImIgVPYF7hA&amp;itbs=1&amp;tbnid=xeGTqiJ6HUdodM:&amp;tbnh=85&amp;tbnw=127&amp;prev=/images?q=italian+flag&amp;hl=en&amp;gbv=2&amp;tbs=isch:1&amp;ei=kgsFTN7iI46mmAOcpaGbDA" TargetMode="External"/><Relationship Id="rId22" Type="http://schemas.openxmlformats.org/officeDocument/2006/relationships/image" Target="../media/image12.jpeg"/><Relationship Id="rId23" Type="http://schemas.openxmlformats.org/officeDocument/2006/relationships/hyperlink" Target="http://www.google.co.uk/imgres?imgurl=http://www.tofocus.info/images/flags/argentina-flag.gif&amp;imgrefurl=http://www.badlefthook.com/2009/2/14/758773/bad-left-hook-fight-night&amp;usg=__0TRq8-WpTADEuzEcVaAa4rcGzds=&amp;h=386&amp;w=600&amp;sz=12&amp;hl=en&amp;start=1&amp;sig2=Xld3zxggGPkQGb1Jy9VbVw&amp;itbs=1&amp;tbnid=G0pGRidOZB8fXM:&amp;tbnh=87&amp;tbnw=135&amp;prev=/images?q=argentinian+flag&amp;hl=en&amp;gbv=2&amp;tbs=isch:1&amp;ei=pgsFTOHvGIfymQPXzuyYDA" TargetMode="External"/><Relationship Id="rId24" Type="http://schemas.openxmlformats.org/officeDocument/2006/relationships/image" Target="../media/image13.jpeg"/><Relationship Id="rId25" Type="http://schemas.openxmlformats.org/officeDocument/2006/relationships/hyperlink" Target="http://www.google.co.uk/imgres?imgurl=http://blogs.houstonpress.com/hairballs/world-cup-trophy.jpg&amp;imgrefurl=http://blogs.houstonpress.com/hairballs/sports/soccer/&amp;usg=__D4q5oVLB-0wdGFdxZOZmpAhF51c=&amp;h=400&amp;w=300&amp;sz=21&amp;hl=en&amp;start=3&amp;sig2=XEGYvmg9DL6cDBwKxjdHmA&amp;itbs=1&amp;tbnid=hfEMEH7vPEzKQM:&amp;tbnh=124&amp;tbnw=93&amp;prev=/images?q=world+cup&amp;hl=en&amp;gbv=2&amp;tbs=isch:1&amp;ei=IQkFTOcMpIabA6uMlKQM" TargetMode="External"/><Relationship Id="rId26" Type="http://schemas.openxmlformats.org/officeDocument/2006/relationships/image" Target="../media/image14.jpeg"/><Relationship Id="rId27" Type="http://schemas.openxmlformats.org/officeDocument/2006/relationships/image" Target="../media/image15.png"/><Relationship Id="rId28" Type="http://schemas.openxmlformats.org/officeDocument/2006/relationships/hyperlink" Target="https://www.google.co.uk/url?q=http://en.wikipedia.org/wiki/2014_FIFA_World_Cup&amp;sa=U&amp;ei=oa-FU8K9IsGZPZ3vgOAH&amp;ved=0CDAQ9QEwAA&amp;sig2=rtci-TVJI6kt5GPo2MkEuA&amp;usg=AFQjCNFJdZbHS3NCt0PE4u6sIbcOkCvj1A" TargetMode="External"/><Relationship Id="rId29" Type="http://schemas.openxmlformats.org/officeDocument/2006/relationships/image" Target="../media/image16.jpeg"/><Relationship Id="rId30" Type="http://schemas.openxmlformats.org/officeDocument/2006/relationships/audio" Target="../media/explode.wav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p.greenwichmeantime.com/time-zone/europe/uk/images/england-flag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pre-host.com/porosia/whois/images/french-flag.pn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.uk/imgres?imgurl=http://www.pre-host.com/porosia/whois/images/german-flag.JPG&amp;imgrefurl=http://www.pre-host.com/porosia/whois/images/&amp;usg=__eAye0AxnCp10eVbXS5CwfqYVztY=&amp;h=366&amp;w=606&amp;sz=6&amp;hl=en&amp;start=1&amp;sig2=XZ8eGkZ9hhKGNJOGhc5TqA&amp;itbs=1&amp;tbnid=X_KmT0Z10cBvCM:&amp;tbnh=82&amp;tbnw=136&amp;prev=/images?q=german+flag&amp;hl=en&amp;gbv=2&amp;tbs=isch:1&amp;ei=CAoFTM2aHIbWmgPC3omJDA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www.google.co.uk/imgres?imgurl=http://www.donquijote.org/culture/spain/history/images/spanish_flag2.jpg&amp;imgrefurl=http://www.donquijote.org/culture/spain/history/flag.asp&amp;usg=__EezuqB3rXzLlCiRrElUkVR1mY5M=&amp;h=369&amp;w=600&amp;sz=25&amp;hl=en&amp;start=1&amp;sig2=8eATwMkG6SGhoYVO9vphCQ&amp;itbs=1&amp;tbnid=ZlyKoGuzsag35M:&amp;tbnh=83&amp;tbnw=135&amp;prev=/images?q=spanishflag&amp;hl=en&amp;gbv=2&amp;tbs=isch:1&amp;ei=IgoFTJyABKKImwPTn-2TAQ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google.co.uk/imgres?imgurl=http://www2.ohchr.org/english/bodies/images/Flags/prt.gif&amp;imgrefurl=http://www2.ohchr.org/english/bodies/cedaw/cedaws42.htm&amp;usg=__TyPGY_t6s08zkXfP3MmrBHxvla8=&amp;h=288&amp;w=432&amp;sz=10&amp;hl=en&amp;start=1&amp;sig2=enW9GcXDvRK9bHzVHpZiNA&amp;itbs=1&amp;tbnid=7pWuBkV5Ky0vxM:&amp;tbnh=84&amp;tbnw=126&amp;prev=/images?q=portuguese+flag&amp;hl=en&amp;gbv=2&amp;tbs=isch:1&amp;ei=QAoFTI2jDIrAmQOWoYTiAg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www.google.co.uk/imgres?imgurl=http://www.appliedlanguage.com/flags_of_the_world/large_flag_of_brazil.gif&amp;imgrefurl=http://www.appliedlanguage.com/flags_of_the_world/flag_of_brazil.shtml&amp;usg=__T5TBEXImx_CLZqO7TDSSAheHDRg=&amp;h=302&amp;w=429&amp;sz=7&amp;hl=en&amp;start=1&amp;sig2=d7FJVgFPUF0pSuoo9xq7LQ&amp;itbs=1&amp;tbnid=M6RVlmU1f5J9lM:&amp;tbnh=89&amp;tbnw=126&amp;prev=/images?q=brazilian+flag&amp;hl=en&amp;gbv=2&amp;tbs=isch:1&amp;ei=3AoFTKW7IYvgmAOQ6fmpDA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www.google.co.uk/imgres?imgurl=http://www.mpressrecords.com/emailimages/Japan%20flag.gif&amp;imgrefurl=http://www.mpressrecords.com/RSNewsletters/nov07/news.html&amp;usg=__V5geYf249o_Z0o5rJ-DPkAlSXQM=&amp;h=351&amp;w=497&amp;sz=4&amp;hl=en&amp;start=1&amp;sig2=Q3iYC7A5d2XwnLKYniQ2mw&amp;itbs=1&amp;tbnid=OznrQ3RZGli_eM:&amp;tbnh=92&amp;tbnw=130&amp;prev=/images?q=japanese+flag&amp;hl=en&amp;gbv=2&amp;tbs=isch:1&amp;ei=IQsFTJjjNJOanwP0vMCoDA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www.google.co.uk/imgres?imgurl=http://tizona.files.wordpress.com/2008/01/australian-flag.jpg&amp;imgrefurl=http://tizona.wordpress.com/2008/01/25/&amp;usg=__wesvGYDuDNx5zPD1h1knjF9k9g8=&amp;h=591&amp;w=886&amp;sz=34&amp;hl=en&amp;start=1&amp;sig2=dQyImUBhb9mr7uiX-U5KvA&amp;itbs=1&amp;tbnid=01GVy0qR8Bj9EM:&amp;tbnh=97&amp;tbnw=146&amp;prev=/images?q=australian+flag&amp;hl=en&amp;gbv=2&amp;tbs=isch:1&amp;ei=OgsFTM7aIJSimwOy6O2aDA" TargetMode="External"/><Relationship Id="rId18" Type="http://schemas.openxmlformats.org/officeDocument/2006/relationships/image" Target="../media/image10.jpeg"/><Relationship Id="rId19" Type="http://schemas.openxmlformats.org/officeDocument/2006/relationships/hyperlink" Target="http://www.google.co.uk/imgres?imgurl=http://www.travelblog.org/World/flags/ag-lgflag.gif&amp;imgrefurl=http://www.travelblog.org/World/ag-flag2.html&amp;usg=__G1V43vCVe_K1odpaCO8VO5a-4XE=&amp;h=302&amp;w=457&amp;sz=4&amp;hl=en&amp;start=1&amp;sig2=l-736K1R4nuIi9TOxkEGWw&amp;itbs=1&amp;tbnid=jfL3BNwL7bpKRM:&amp;tbnh=85&amp;tbnw=128&amp;prev=/images?q=algerianflag&amp;hl=en&amp;gbv=2&amp;tbs=isch:1&amp;ei=egsFTKD7LqGkmwPsl_HFAw" TargetMode="External"/><Relationship Id="rId20" Type="http://schemas.openxmlformats.org/officeDocument/2006/relationships/image" Target="../media/image11.jpeg"/><Relationship Id="rId21" Type="http://schemas.openxmlformats.org/officeDocument/2006/relationships/hyperlink" Target="http://www.google.co.uk/imgres?imgurl=http://aworldofrecipes.net/countries/italy/italiansausagelasagna/italian-flag.gif&amp;imgrefurl=http://aworldofrecipes.net/countries/italy/italiansausagelasagna/&amp;usg=__f_GOv33VBGbZ-PNKo89Afaact8E=&amp;h=300&amp;w=450&amp;sz=3&amp;hl=en&amp;start=1&amp;sig2=uazXjDxsYOQImIgVPYF7hA&amp;itbs=1&amp;tbnid=xeGTqiJ6HUdodM:&amp;tbnh=85&amp;tbnw=127&amp;prev=/images?q=italian+flag&amp;hl=en&amp;gbv=2&amp;tbs=isch:1&amp;ei=kgsFTN7iI46mmAOcpaGbDA" TargetMode="External"/><Relationship Id="rId22" Type="http://schemas.openxmlformats.org/officeDocument/2006/relationships/image" Target="../media/image12.jpeg"/><Relationship Id="rId23" Type="http://schemas.openxmlformats.org/officeDocument/2006/relationships/hyperlink" Target="http://www.google.co.uk/imgres?imgurl=http://www.tofocus.info/images/flags/argentina-flag.gif&amp;imgrefurl=http://www.badlefthook.com/2009/2/14/758773/bad-left-hook-fight-night&amp;usg=__0TRq8-WpTADEuzEcVaAa4rcGzds=&amp;h=386&amp;w=600&amp;sz=12&amp;hl=en&amp;start=1&amp;sig2=Xld3zxggGPkQGb1Jy9VbVw&amp;itbs=1&amp;tbnid=G0pGRidOZB8fXM:&amp;tbnh=87&amp;tbnw=135&amp;prev=/images?q=argentinian+flag&amp;hl=en&amp;gbv=2&amp;tbs=isch:1&amp;ei=pgsFTOHvGIfymQPXzuyYDA" TargetMode="External"/><Relationship Id="rId24" Type="http://schemas.openxmlformats.org/officeDocument/2006/relationships/image" Target="../media/image13.jpeg"/><Relationship Id="rId25" Type="http://schemas.openxmlformats.org/officeDocument/2006/relationships/hyperlink" Target="http://www.google.co.uk/imgres?imgurl=http://blogs.houstonpress.com/hairballs/world-cup-trophy.jpg&amp;imgrefurl=http://blogs.houstonpress.com/hairballs/sports/soccer/&amp;usg=__D4q5oVLB-0wdGFdxZOZmpAhF51c=&amp;h=400&amp;w=300&amp;sz=21&amp;hl=en&amp;start=3&amp;sig2=XEGYvmg9DL6cDBwKxjdHmA&amp;itbs=1&amp;tbnid=hfEMEH7vPEzKQM:&amp;tbnh=124&amp;tbnw=93&amp;prev=/images?q=world+cup&amp;hl=en&amp;gbv=2&amp;tbs=isch:1&amp;ei=IQkFTOcMpIabA6uMlKQM" TargetMode="External"/><Relationship Id="rId26" Type="http://schemas.openxmlformats.org/officeDocument/2006/relationships/image" Target="../media/image14.jpeg"/><Relationship Id="rId27" Type="http://schemas.openxmlformats.org/officeDocument/2006/relationships/image" Target="../media/image15.png"/><Relationship Id="rId28" Type="http://schemas.openxmlformats.org/officeDocument/2006/relationships/image" Target="../media/image16.jpeg"/><Relationship Id="rId29" Type="http://schemas.openxmlformats.org/officeDocument/2006/relationships/audio" Target="../media/explode.wav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25"/>
          <p:cNvSpPr/>
          <p:nvPr/>
        </p:nvSpPr>
        <p:spPr>
          <a:xfrm>
            <a:off x="1857240" y="1214280"/>
            <a:ext cx="5072040" cy="3071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 Callout 45"/>
          <p:cNvSpPr/>
          <p:nvPr/>
        </p:nvSpPr>
        <p:spPr>
          <a:xfrm>
            <a:off x="6786720" y="2500200"/>
            <a:ext cx="2357280" cy="2000520"/>
          </a:xfrm>
          <a:prstGeom prst="cloudCallout">
            <a:avLst>
              <a:gd name="adj1" fmla="val -71861"/>
              <a:gd name="adj2" fmla="val 1162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 Callout 44"/>
          <p:cNvSpPr/>
          <p:nvPr/>
        </p:nvSpPr>
        <p:spPr>
          <a:xfrm>
            <a:off x="6858000" y="1214280"/>
            <a:ext cx="2286000" cy="1500480"/>
          </a:xfrm>
          <a:prstGeom prst="cloudCallout">
            <a:avLst>
              <a:gd name="adj1" fmla="val -56314"/>
              <a:gd name="adj2" fmla="val 6793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 Callout 23"/>
          <p:cNvSpPr/>
          <p:nvPr/>
        </p:nvSpPr>
        <p:spPr>
          <a:xfrm>
            <a:off x="0" y="3214800"/>
            <a:ext cx="2143080" cy="1357200"/>
          </a:xfrm>
          <a:prstGeom prst="cloudCallout">
            <a:avLst>
              <a:gd name="adj1" fmla="val 67254"/>
              <a:gd name="adj2" fmla="val -135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Explosion 1 40"/>
          <p:cNvGrpSpPr/>
          <p:nvPr/>
        </p:nvGrpSpPr>
        <p:grpSpPr>
          <a:xfrm>
            <a:off x="1225440" y="3676680"/>
            <a:ext cx="8259840" cy="2327400"/>
            <a:chOff x="1225440" y="3676680"/>
            <a:chExt cx="8259840" cy="2327400"/>
          </a:xfrm>
        </p:grpSpPr>
        <p:pic>
          <p:nvPicPr>
            <p:cNvPr id="46" name="Explosion 1 40" descr=""/>
            <p:cNvPicPr/>
            <p:nvPr/>
          </p:nvPicPr>
          <p:blipFill>
            <a:blip r:embed="rId1"/>
            <a:stretch/>
          </p:blipFill>
          <p:spPr>
            <a:xfrm>
              <a:off x="1225440" y="3676680"/>
              <a:ext cx="8259840" cy="23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030480" y="4362480"/>
              <a:ext cx="455292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Cloud Callout 19"/>
          <p:cNvSpPr/>
          <p:nvPr/>
        </p:nvSpPr>
        <p:spPr>
          <a:xfrm>
            <a:off x="0" y="1214280"/>
            <a:ext cx="1785960" cy="1143000"/>
          </a:xfrm>
          <a:prstGeom prst="cloudCallout">
            <a:avLst>
              <a:gd name="adj1" fmla="val 62574"/>
              <a:gd name="adj2" fmla="val 328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5" descr=""/>
          <p:cNvPicPr/>
          <p:nvPr/>
        </p:nvPicPr>
        <p:blipFill>
          <a:blip r:embed="rId2"/>
          <a:stretch/>
        </p:blipFill>
        <p:spPr>
          <a:xfrm>
            <a:off x="1768320" y="-115920"/>
            <a:ext cx="5284800" cy="4784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228680" cy="73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85960" y="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t2.gstatic.com/images?q=tbn:X_KmT0Z10cBvCM:http://www.pre-host.com/porosia/whois/images/german-fla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14800" y="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t2.gstatic.com/images?q=tbn:ZlyKoGuzsag35M:http://www.donquijote.org/culture/spain/history/images/spanish_flag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57840" y="0"/>
            <a:ext cx="1285920" cy="79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http://t2.gstatic.com/images?q=tbn:7pWuBkV5Ky0vxM:http://www2.ohchr.org/english/bodies/images/Flags/prt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57960" y="0"/>
            <a:ext cx="1200240" cy="800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http://t1.gstatic.com/images?q=tbn:M6RVlmU1f5J9lM:http://www.appliedlanguage.com/flags_of_the_world/large_flag_of_brazil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785960" y="6010200"/>
            <a:ext cx="1200240" cy="84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http://t3.gstatic.com/images?q=tbn:OznrQ3RZGli_eM:http://www.mpressrecords.com/emailimages/Japan%2520flag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86080" y="5981760"/>
            <a:ext cx="1238400" cy="87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http://t1.gstatic.com/images?q=tbn:01GVy0qR8Bj9EM:http://tizona.files.wordpress.com/2008/01/australian-flag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714920" y="6005520"/>
            <a:ext cx="1282680" cy="852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http://t3.gstatic.com/images?q=tbn:jfL3BNwL7bpKRM:http://www.travelblog.org/World/flags/ag-lgflag.gif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215040" y="5977080"/>
            <a:ext cx="1327320" cy="8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http://t3.gstatic.com/images?q=tbn:xeGTqiJ6HUdodM:http://aworldofrecipes.net/countries/italy/italiansausagelasagna/italian-flag.gif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934400" y="0"/>
            <a:ext cx="1209600" cy="80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8" descr="http://t2.gstatic.com/images?q=tbn:G0pGRidOZB8fXM:http://www.tofocus.info/images/flags/argentina-flag.gif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7786800" y="5983200"/>
            <a:ext cx="1357200" cy="874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8"/>
          <p:cNvSpPr/>
          <p:nvPr/>
        </p:nvSpPr>
        <p:spPr>
          <a:xfrm>
            <a:off x="285840" y="135720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A m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avi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 Callout 20"/>
          <p:cNvSpPr/>
          <p:nvPr/>
        </p:nvSpPr>
        <p:spPr>
          <a:xfrm>
            <a:off x="0" y="2143080"/>
            <a:ext cx="1857240" cy="1285920"/>
          </a:xfrm>
          <a:prstGeom prst="cloudCallout">
            <a:avLst>
              <a:gd name="adj1" fmla="val 72074"/>
              <a:gd name="adj2" fmla="val -52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214200" y="2428920"/>
            <a:ext cx="12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Selon mo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4"/>
          <p:cNvSpPr/>
          <p:nvPr/>
        </p:nvSpPr>
        <p:spPr>
          <a:xfrm>
            <a:off x="214200" y="3500280"/>
            <a:ext cx="20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Je pense qu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6"/>
          <p:cNvSpPr/>
          <p:nvPr/>
        </p:nvSpPr>
        <p:spPr>
          <a:xfrm>
            <a:off x="0" y="857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7"/>
          <p:cNvSpPr/>
          <p:nvPr/>
        </p:nvSpPr>
        <p:spPr>
          <a:xfrm>
            <a:off x="1785960" y="857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0" y="53006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République de Co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9"/>
          <p:cNvSpPr/>
          <p:nvPr/>
        </p:nvSpPr>
        <p:spPr>
          <a:xfrm>
            <a:off x="1785960" y="5500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e Bré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0"/>
          <p:cNvSpPr/>
          <p:nvPr/>
        </p:nvSpPr>
        <p:spPr>
          <a:xfrm>
            <a:off x="3214800" y="5429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e Ja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1"/>
          <p:cNvSpPr/>
          <p:nvPr/>
        </p:nvSpPr>
        <p:spPr>
          <a:xfrm>
            <a:off x="4643280" y="5500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ustr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2"/>
          <p:cNvSpPr/>
          <p:nvPr/>
        </p:nvSpPr>
        <p:spPr>
          <a:xfrm>
            <a:off x="6234120" y="542916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lg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3"/>
          <p:cNvSpPr/>
          <p:nvPr/>
        </p:nvSpPr>
        <p:spPr>
          <a:xfrm>
            <a:off x="7500960" y="55008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rgen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4"/>
          <p:cNvSpPr/>
          <p:nvPr/>
        </p:nvSpPr>
        <p:spPr>
          <a:xfrm>
            <a:off x="3143160" y="8571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llem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5"/>
          <p:cNvSpPr/>
          <p:nvPr/>
        </p:nvSpPr>
        <p:spPr>
          <a:xfrm>
            <a:off x="4857840" y="857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6215040" y="857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e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7"/>
          <p:cNvSpPr/>
          <p:nvPr/>
        </p:nvSpPr>
        <p:spPr>
          <a:xfrm>
            <a:off x="7858080" y="8571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It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9"/>
          <p:cNvSpPr/>
          <p:nvPr/>
        </p:nvSpPr>
        <p:spPr>
          <a:xfrm>
            <a:off x="2714760" y="450072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...va gagner la coupe du mon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>
            <a:off x="7143840" y="142884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Oui, je suis d’ac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3"/>
          <p:cNvSpPr/>
          <p:nvPr/>
        </p:nvSpPr>
        <p:spPr>
          <a:xfrm>
            <a:off x="7215120" y="285768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Non, je ne suis pas d’ac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http://t0.gstatic.com/images?q=tbn:hfEMEH7vPEzKQM:http://blogs.houstonpress.com/hairballs/world-cup-trophy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929120" y="1500120"/>
            <a:ext cx="1747800" cy="207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27"/>
          <a:stretch/>
        </p:blipFill>
        <p:spPr>
          <a:xfrm>
            <a:off x="179280" y="5954760"/>
            <a:ext cx="1352520" cy="90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6" descr="https://encrypted-tbn1.gstatic.com/images?q=tbn:ANd9GcST04gNuvUXt2TtgRDmkInUZ-9USERfnqYal-vJH9K8p4OjSCI9KN_g-Xo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2340000" y="1557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0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ounded Rectangle 25"/>
          <p:cNvSpPr/>
          <p:nvPr/>
        </p:nvSpPr>
        <p:spPr>
          <a:xfrm>
            <a:off x="1857240" y="1214280"/>
            <a:ext cx="5072040" cy="3071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loud Callout 45"/>
          <p:cNvSpPr/>
          <p:nvPr/>
        </p:nvSpPr>
        <p:spPr>
          <a:xfrm>
            <a:off x="6786720" y="2500200"/>
            <a:ext cx="2357280" cy="2000520"/>
          </a:xfrm>
          <a:prstGeom prst="cloudCallout">
            <a:avLst>
              <a:gd name="adj1" fmla="val -71861"/>
              <a:gd name="adj2" fmla="val 1162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loud Callout 44"/>
          <p:cNvSpPr/>
          <p:nvPr/>
        </p:nvSpPr>
        <p:spPr>
          <a:xfrm>
            <a:off x="6858000" y="1214280"/>
            <a:ext cx="2286000" cy="1500480"/>
          </a:xfrm>
          <a:prstGeom prst="cloudCallout">
            <a:avLst>
              <a:gd name="adj1" fmla="val -56314"/>
              <a:gd name="adj2" fmla="val 6793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loud Callout 23"/>
          <p:cNvSpPr/>
          <p:nvPr/>
        </p:nvSpPr>
        <p:spPr>
          <a:xfrm>
            <a:off x="0" y="3214800"/>
            <a:ext cx="2143080" cy="1357200"/>
          </a:xfrm>
          <a:prstGeom prst="cloudCallout">
            <a:avLst>
              <a:gd name="adj1" fmla="val 67254"/>
              <a:gd name="adj2" fmla="val -135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Explosion 1 40"/>
          <p:cNvGrpSpPr/>
          <p:nvPr/>
        </p:nvGrpSpPr>
        <p:grpSpPr>
          <a:xfrm>
            <a:off x="1225440" y="3676680"/>
            <a:ext cx="8259840" cy="2327400"/>
            <a:chOff x="1225440" y="3676680"/>
            <a:chExt cx="8259840" cy="2327400"/>
          </a:xfrm>
        </p:grpSpPr>
        <p:pic>
          <p:nvPicPr>
            <p:cNvPr id="88" name="Explosion 1 40" descr=""/>
            <p:cNvPicPr/>
            <p:nvPr/>
          </p:nvPicPr>
          <p:blipFill>
            <a:blip r:embed="rId1"/>
            <a:stretch/>
          </p:blipFill>
          <p:spPr>
            <a:xfrm>
              <a:off x="1225440" y="3676680"/>
              <a:ext cx="8259840" cy="23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030480" y="4362480"/>
              <a:ext cx="455292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Cloud Callout 19"/>
          <p:cNvSpPr/>
          <p:nvPr/>
        </p:nvSpPr>
        <p:spPr>
          <a:xfrm>
            <a:off x="0" y="1214280"/>
            <a:ext cx="1785960" cy="1143000"/>
          </a:xfrm>
          <a:prstGeom prst="cloudCallout">
            <a:avLst>
              <a:gd name="adj1" fmla="val 62574"/>
              <a:gd name="adj2" fmla="val 328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5" descr=""/>
          <p:cNvPicPr/>
          <p:nvPr/>
        </p:nvPicPr>
        <p:blipFill>
          <a:blip r:embed="rId2"/>
          <a:stretch/>
        </p:blipFill>
        <p:spPr>
          <a:xfrm>
            <a:off x="1768320" y="-115920"/>
            <a:ext cx="5284800" cy="478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228680" cy="733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85960" y="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http://t2.gstatic.com/images?q=tbn:X_KmT0Z10cBvCM:http://www.pre-host.com/porosia/whois/images/german-fla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14800" y="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http://t2.gstatic.com/images?q=tbn:ZlyKoGuzsag35M:http://www.donquijote.org/culture/spain/history/images/spanish_flag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57840" y="0"/>
            <a:ext cx="1285920" cy="79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http://t2.gstatic.com/images?q=tbn:7pWuBkV5Ky0vxM:http://www2.ohchr.org/english/bodies/images/Flags/prt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57960" y="0"/>
            <a:ext cx="1200240" cy="80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http://t1.gstatic.com/images?q=tbn:M6RVlmU1f5J9lM:http://www.appliedlanguage.com/flags_of_the_world/large_flag_of_brazil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785960" y="6010200"/>
            <a:ext cx="1200240" cy="84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http://t3.gstatic.com/images?q=tbn:OznrQ3RZGli_eM:http://www.mpressrecords.com/emailimages/Japan%2520flag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86080" y="5981760"/>
            <a:ext cx="1238400" cy="876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2" descr="http://t1.gstatic.com/images?q=tbn:01GVy0qR8Bj9EM:http://tizona.files.wordpress.com/2008/01/australian-flag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714920" y="6005520"/>
            <a:ext cx="1282680" cy="852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4" descr="http://t3.gstatic.com/images?q=tbn:jfL3BNwL7bpKRM:http://www.travelblog.org/World/flags/ag-lgflag.gif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215040" y="5977080"/>
            <a:ext cx="1327320" cy="88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http://t3.gstatic.com/images?q=tbn:xeGTqiJ6HUdodM:http://aworldofrecipes.net/countries/italy/italiansausagelasagna/italian-flag.gif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934400" y="0"/>
            <a:ext cx="1209600" cy="80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8" descr="http://t2.gstatic.com/images?q=tbn:G0pGRidOZB8fXM:http://www.tofocus.info/images/flags/argentina-flag.gif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7786800" y="5983200"/>
            <a:ext cx="1357200" cy="8748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8"/>
          <p:cNvSpPr/>
          <p:nvPr/>
        </p:nvSpPr>
        <p:spPr>
          <a:xfrm>
            <a:off x="285840" y="135720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A m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avi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loud Callout 20"/>
          <p:cNvSpPr/>
          <p:nvPr/>
        </p:nvSpPr>
        <p:spPr>
          <a:xfrm>
            <a:off x="0" y="2143080"/>
            <a:ext cx="1857240" cy="1285920"/>
          </a:xfrm>
          <a:prstGeom prst="cloudCallout">
            <a:avLst>
              <a:gd name="adj1" fmla="val 72074"/>
              <a:gd name="adj2" fmla="val -52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2"/>
          <p:cNvSpPr/>
          <p:nvPr/>
        </p:nvSpPr>
        <p:spPr>
          <a:xfrm>
            <a:off x="214200" y="2428920"/>
            <a:ext cx="12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Selon mo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214200" y="3500280"/>
            <a:ext cx="20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Je pense qu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0" y="857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1785960" y="857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8"/>
          <p:cNvSpPr/>
          <p:nvPr/>
        </p:nvSpPr>
        <p:spPr>
          <a:xfrm>
            <a:off x="0" y="53006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République de Co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9"/>
          <p:cNvSpPr/>
          <p:nvPr/>
        </p:nvSpPr>
        <p:spPr>
          <a:xfrm>
            <a:off x="1785960" y="5500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e Bré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0"/>
          <p:cNvSpPr/>
          <p:nvPr/>
        </p:nvSpPr>
        <p:spPr>
          <a:xfrm>
            <a:off x="3214800" y="5429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e Ja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4643280" y="5500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ustr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6234120" y="542916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lg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3"/>
          <p:cNvSpPr/>
          <p:nvPr/>
        </p:nvSpPr>
        <p:spPr>
          <a:xfrm>
            <a:off x="7500960" y="55008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rgen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4"/>
          <p:cNvSpPr/>
          <p:nvPr/>
        </p:nvSpPr>
        <p:spPr>
          <a:xfrm>
            <a:off x="3143160" y="8571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llem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5"/>
          <p:cNvSpPr/>
          <p:nvPr/>
        </p:nvSpPr>
        <p:spPr>
          <a:xfrm>
            <a:off x="4857840" y="857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6"/>
          <p:cNvSpPr/>
          <p:nvPr/>
        </p:nvSpPr>
        <p:spPr>
          <a:xfrm>
            <a:off x="6215040" y="857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e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7"/>
          <p:cNvSpPr/>
          <p:nvPr/>
        </p:nvSpPr>
        <p:spPr>
          <a:xfrm>
            <a:off x="7858080" y="8571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It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9"/>
          <p:cNvSpPr/>
          <p:nvPr/>
        </p:nvSpPr>
        <p:spPr>
          <a:xfrm>
            <a:off x="2714760" y="450072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...va gagner le ma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2"/>
          <p:cNvSpPr/>
          <p:nvPr/>
        </p:nvSpPr>
        <p:spPr>
          <a:xfrm>
            <a:off x="7143840" y="142884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Oui, je suis d’ac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3"/>
          <p:cNvSpPr/>
          <p:nvPr/>
        </p:nvSpPr>
        <p:spPr>
          <a:xfrm>
            <a:off x="7215120" y="285768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Non, je ne suis pas d’ac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http://t0.gstatic.com/images?q=tbn:hfEMEH7vPEzKQM:http://blogs.houstonpress.com/hairballs/world-cup-trophy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929120" y="1500120"/>
            <a:ext cx="1747800" cy="20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4" descr=""/>
          <p:cNvPicPr/>
          <p:nvPr/>
        </p:nvPicPr>
        <p:blipFill>
          <a:blip r:embed="rId27"/>
          <a:stretch/>
        </p:blipFill>
        <p:spPr>
          <a:xfrm>
            <a:off x="179280" y="5954760"/>
            <a:ext cx="1352520" cy="903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6" descr="https://encrypted-tbn1.gstatic.com/images?q=tbn:ANd9GcST04gNuvUXt2TtgRDmkInUZ-9USERfnqYal-vJH9K8p4OjSCI9KN_g-Xo"/>
          <p:cNvPicPr/>
          <p:nvPr/>
        </p:nvPicPr>
        <p:blipFill>
          <a:blip r:embed="rId28"/>
          <a:stretch/>
        </p:blipFill>
        <p:spPr>
          <a:xfrm>
            <a:off x="2340000" y="1557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9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3:20:05Z</dcterms:created>
  <dc:creator>sghani</dc:creator>
  <dc:description/>
  <dc:language>en-US</dc:language>
  <cp:lastModifiedBy>Clare Seccombe</cp:lastModifiedBy>
  <dcterms:modified xsi:type="dcterms:W3CDTF">2014-05-30T11:58:26Z</dcterms:modified>
  <cp:revision>11</cp:revision>
  <dc:subject/>
  <dc:title>Slide 1</dc:title>
</cp:coreProperties>
</file>