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explode.wav" ContentType="audio/x-wav"/>
  <Override PartName="/ppt/media/image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6F8-FAD0-44B3-B7EE-3EFEC97D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E96-333E-42BE-B9E4-5EC0E32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95B-D0BB-4771-8AF5-7411E4AF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024-3CB1-4877-BE98-5FAED9E5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27C-539A-42EF-AA77-0D9AD64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05B-C6B8-4BD9-9272-4246BA4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BEF-D1DC-4BA2-8EEC-59B8F54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C53-B791-4966-B49E-4AA9B08F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9EF-57C1-4092-ADF4-85FCC34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402-A990-4EAB-8FF1-B348301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FEB-B6C0-407F-ADA5-B4F46DC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1B1-BA0F-4C64-AB26-0DBFC67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482-A2D3-4F90-9EDB-AF5619FB85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hyperlink" Target="https://www.google.co.uk/url?q=http://en.wikipedia.org/wiki/2014_FIFA_World_Cup&amp;sa=U&amp;ei=oa-FU8K9IsGZPZ3vgOAH&amp;ved=0CDAQ9QEwAA&amp;sig2=rtci-TVJI6kt5GPo2MkEuA&amp;usg=AFQjCNFJdZbHS3NCt0PE4u6sIbcOkCvj1A" TargetMode="External"/><Relationship Id="rId29" Type="http://schemas.openxmlformats.org/officeDocument/2006/relationships/image" Target="../media/image16.jpeg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p.greenwichmeantime.com/time-zone/europe/uk/images/england-flag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re-host.com/porosia/whois/images/french-flag.p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.uk/imgres?imgurl=http://www.pre-host.com/porosia/whois/images/german-flag.JPG&amp;imgrefurl=http://www.pre-host.com/porosia/whois/images/&amp;usg=__eAye0AxnCp10eVbXS5CwfqYVztY=&amp;h=366&amp;w=606&amp;sz=6&amp;hl=en&amp;start=1&amp;sig2=XZ8eGkZ9hhKGNJOGhc5TqA&amp;itbs=1&amp;tbnid=X_KmT0Z10cBvCM:&amp;tbnh=82&amp;tbnw=136&amp;prev=/images?q=german+flag&amp;hl=en&amp;gbv=2&amp;tbs=isch:1&amp;ei=CAoFTM2aHIbWmgPC3omJDA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.uk/imgres?imgurl=http://www.donquijote.org/culture/spain/history/images/spanish_flag2.jpg&amp;imgrefurl=http://www.donquijote.org/culture/spain/history/flag.asp&amp;usg=__EezuqB3rXzLlCiRrElUkVR1mY5M=&amp;h=369&amp;w=600&amp;sz=25&amp;hl=en&amp;start=1&amp;sig2=8eATwMkG6SGhoYVO9vphCQ&amp;itbs=1&amp;tbnid=ZlyKoGuzsag35M:&amp;tbnh=83&amp;tbnw=135&amp;prev=/images?q=spanishflag&amp;hl=en&amp;gbv=2&amp;tbs=isch:1&amp;ei=IgoFTJyABKKImwPTn-2TAQ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.uk/imgres?imgurl=http://www2.ohchr.org/english/bodies/images/Flags/prt.gif&amp;imgrefurl=http://www2.ohchr.org/english/bodies/cedaw/cedaws42.htm&amp;usg=__TyPGY_t6s08zkXfP3MmrBHxvla8=&amp;h=288&amp;w=432&amp;sz=10&amp;hl=en&amp;start=1&amp;sig2=enW9GcXDvRK9bHzVHpZiNA&amp;itbs=1&amp;tbnid=7pWuBkV5Ky0vxM:&amp;tbnh=84&amp;tbnw=126&amp;prev=/images?q=portuguese+flag&amp;hl=en&amp;gbv=2&amp;tbs=isch:1&amp;ei=QAoFTI2jDIrAmQOWoYTiA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google.co.uk/imgres?imgurl=http://www.appliedlanguage.com/flags_of_the_world/large_flag_of_brazil.gif&amp;imgrefurl=http://www.appliedlanguage.com/flags_of_the_world/flag_of_brazil.shtml&amp;usg=__T5TBEXImx_CLZqO7TDSSAheHDRg=&amp;h=302&amp;w=429&amp;sz=7&amp;hl=en&amp;start=1&amp;sig2=d7FJVgFPUF0pSuoo9xq7LQ&amp;itbs=1&amp;tbnid=M6RVlmU1f5J9lM:&amp;tbnh=89&amp;tbnw=126&amp;prev=/images?q=brazilian+flag&amp;hl=en&amp;gbv=2&amp;tbs=isch:1&amp;ei=3AoFTKW7IYvgmAOQ6fmpDA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google.co.uk/imgres?imgurl=http://www.mpressrecords.com/emailimages/Japan%20flag.gif&amp;imgrefurl=http://www.mpressrecords.com/RSNewsletters/nov07/news.html&amp;usg=__V5geYf249o_Z0o5rJ-DPkAlSXQM=&amp;h=351&amp;w=497&amp;sz=4&amp;hl=en&amp;start=1&amp;sig2=Q3iYC7A5d2XwnLKYniQ2mw&amp;itbs=1&amp;tbnid=OznrQ3RZGli_eM:&amp;tbnh=92&amp;tbnw=130&amp;prev=/images?q=japanese+flag&amp;hl=en&amp;gbv=2&amp;tbs=isch:1&amp;ei=IQsFTJjjNJOanwP0vMCoDA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google.co.uk/imgres?imgurl=http://tizona.files.wordpress.com/2008/01/australian-flag.jpg&amp;imgrefurl=http://tizona.wordpress.com/2008/01/25/&amp;usg=__wesvGYDuDNx5zPD1h1knjF9k9g8=&amp;h=591&amp;w=886&amp;sz=34&amp;hl=en&amp;start=1&amp;sig2=dQyImUBhb9mr7uiX-U5KvA&amp;itbs=1&amp;tbnid=01GVy0qR8Bj9EM:&amp;tbnh=97&amp;tbnw=146&amp;prev=/images?q=australian+flag&amp;hl=en&amp;gbv=2&amp;tbs=isch:1&amp;ei=OgsFTM7aIJSimwOy6O2aDA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google.co.uk/imgres?imgurl=http://www.travelblog.org/World/flags/ag-lgflag.gif&amp;imgrefurl=http://www.travelblog.org/World/ag-flag2.html&amp;usg=__G1V43vCVe_K1odpaCO8VO5a-4XE=&amp;h=302&amp;w=457&amp;sz=4&amp;hl=en&amp;start=1&amp;sig2=l-736K1R4nuIi9TOxkEGWw&amp;itbs=1&amp;tbnid=jfL3BNwL7bpKRM:&amp;tbnh=85&amp;tbnw=128&amp;prev=/images?q=algerianflag&amp;hl=en&amp;gbv=2&amp;tbs=isch:1&amp;ei=egsFTKD7LqGkmwPsl_HFAw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google.co.uk/imgres?imgurl=http://aworldofrecipes.net/countries/italy/italiansausagelasagna/italian-flag.gif&amp;imgrefurl=http://aworldofrecipes.net/countries/italy/italiansausagelasagna/&amp;usg=__f_GOv33VBGbZ-PNKo89Afaact8E=&amp;h=300&amp;w=450&amp;sz=3&amp;hl=en&amp;start=1&amp;sig2=uazXjDxsYOQImIgVPYF7hA&amp;itbs=1&amp;tbnid=xeGTqiJ6HUdodM:&amp;tbnh=85&amp;tbnw=127&amp;prev=/images?q=italian+flag&amp;hl=en&amp;gbv=2&amp;tbs=isch:1&amp;ei=kgsFTN7iI46mmAOcpaGbDA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www.google.co.uk/imgres?imgurl=http://www.tofocus.info/images/flags/argentina-flag.gif&amp;imgrefurl=http://www.badlefthook.com/2009/2/14/758773/bad-left-hook-fight-night&amp;usg=__0TRq8-WpTADEuzEcVaAa4rcGzds=&amp;h=386&amp;w=600&amp;sz=12&amp;hl=en&amp;start=1&amp;sig2=Xld3zxggGPkQGb1Jy9VbVw&amp;itbs=1&amp;tbnid=G0pGRidOZB8fXM:&amp;tbnh=87&amp;tbnw=135&amp;prev=/images?q=argentinian+flag&amp;hl=en&amp;gbv=2&amp;tbs=isch:1&amp;ei=pgsFTOHvGIfymQPXzuyYDA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www.google.co.uk/imgres?imgurl=http://blogs.houstonpress.com/hairballs/world-cup-trophy.jpg&amp;imgrefurl=http://blogs.houstonpress.com/hairballs/sports/soccer/&amp;usg=__D4q5oVLB-0wdGFdxZOZmpAhF51c=&amp;h=400&amp;w=300&amp;sz=21&amp;hl=en&amp;start=3&amp;sig2=XEGYvmg9DL6cDBwKxjdHmA&amp;itbs=1&amp;tbnid=hfEMEH7vPEzKQM:&amp;tbnh=124&amp;tbnw=93&amp;prev=/images?q=world+cup&amp;hl=en&amp;gbv=2&amp;tbs=isch:1&amp;ei=IQkFTOcMpIabA6uMlKQM" TargetMode="External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jpeg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Explosion 1 40"/>
          <p:cNvGrpSpPr/>
          <p:nvPr/>
        </p:nvGrpSpPr>
        <p:grpSpPr>
          <a:xfrm>
            <a:off x="1258920" y="3645000"/>
            <a:ext cx="8259840" cy="2327040"/>
            <a:chOff x="1258920" y="3645000"/>
            <a:chExt cx="8259840" cy="2327040"/>
          </a:xfrm>
        </p:grpSpPr>
        <p:pic>
          <p:nvPicPr>
            <p:cNvPr id="46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58920" y="3645000"/>
              <a:ext cx="825984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063960" y="4330440"/>
              <a:ext cx="455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En mi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pinió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214200" y="24289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i parece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Piens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República de C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1835280" y="5589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3419640" y="558972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Jap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1"/>
          <p:cNvSpPr/>
          <p:nvPr/>
        </p:nvSpPr>
        <p:spPr>
          <a:xfrm>
            <a:off x="4716360" y="5589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6366600" y="558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7667640" y="5589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3143160" y="857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lem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6372360" y="857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8028000" y="857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a ganar la Cop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7143840" y="14288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í,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, no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https://encrypted-tbn1.gstatic.com/images?q=tbn:ANd9GcST04gNuvUXt2TtgRDmkInUZ-9USERfnqYal-vJH9K8p4OjSCI9KN_g-Xo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0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ounded Rectangle 25"/>
          <p:cNvSpPr/>
          <p:nvPr/>
        </p:nvSpPr>
        <p:spPr>
          <a:xfrm>
            <a:off x="1857240" y="1214280"/>
            <a:ext cx="5072040" cy="30718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 Callout 45"/>
          <p:cNvSpPr/>
          <p:nvPr/>
        </p:nvSpPr>
        <p:spPr>
          <a:xfrm>
            <a:off x="6786720" y="2500200"/>
            <a:ext cx="2357280" cy="2000520"/>
          </a:xfrm>
          <a:prstGeom prst="cloudCallout">
            <a:avLst>
              <a:gd name="adj1" fmla="val -71861"/>
              <a:gd name="adj2" fmla="val 1162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44"/>
          <p:cNvSpPr/>
          <p:nvPr/>
        </p:nvSpPr>
        <p:spPr>
          <a:xfrm>
            <a:off x="6858000" y="1214280"/>
            <a:ext cx="2286000" cy="1500480"/>
          </a:xfrm>
          <a:prstGeom prst="cloudCallout">
            <a:avLst>
              <a:gd name="adj1" fmla="val -56314"/>
              <a:gd name="adj2" fmla="val 6793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 Callout 23"/>
          <p:cNvSpPr/>
          <p:nvPr/>
        </p:nvSpPr>
        <p:spPr>
          <a:xfrm>
            <a:off x="0" y="3214800"/>
            <a:ext cx="2143080" cy="1357200"/>
          </a:xfrm>
          <a:prstGeom prst="cloudCallout">
            <a:avLst>
              <a:gd name="adj1" fmla="val 67254"/>
              <a:gd name="adj2" fmla="val -13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Explosion 1 40"/>
          <p:cNvGrpSpPr/>
          <p:nvPr/>
        </p:nvGrpSpPr>
        <p:grpSpPr>
          <a:xfrm>
            <a:off x="1258920" y="3645000"/>
            <a:ext cx="8259840" cy="2327040"/>
            <a:chOff x="1258920" y="3645000"/>
            <a:chExt cx="8259840" cy="2327040"/>
          </a:xfrm>
        </p:grpSpPr>
        <p:pic>
          <p:nvPicPr>
            <p:cNvPr id="88" name="Explosion 1 40" descr=""/>
            <p:cNvPicPr/>
            <p:nvPr/>
          </p:nvPicPr>
          <p:blipFill>
            <a:blip r:embed="rId1"/>
            <a:stretch/>
          </p:blipFill>
          <p:spPr>
            <a:xfrm>
              <a:off x="1258920" y="3645000"/>
              <a:ext cx="825984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063960" y="4330440"/>
              <a:ext cx="45529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Cloud Callout 19"/>
          <p:cNvSpPr/>
          <p:nvPr/>
        </p:nvSpPr>
        <p:spPr>
          <a:xfrm>
            <a:off x="0" y="1214280"/>
            <a:ext cx="1785960" cy="1143000"/>
          </a:xfrm>
          <a:prstGeom prst="cloudCallout">
            <a:avLst>
              <a:gd name="adj1" fmla="val 62574"/>
              <a:gd name="adj2" fmla="val 328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5" descr=""/>
          <p:cNvPicPr/>
          <p:nvPr/>
        </p:nvPicPr>
        <p:blipFill>
          <a:blip r:embed="rId2"/>
          <a:stretch/>
        </p:blipFill>
        <p:spPr>
          <a:xfrm>
            <a:off x="1768320" y="-115920"/>
            <a:ext cx="5284800" cy="47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28680" cy="73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85960" y="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t2.gstatic.com/images?q=tbn:X_KmT0Z10cBvCM:http://www.pre-host.com/porosia/whois/images/german-fla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14800" y="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t2.gstatic.com/images?q=tbn:ZlyKoGuzsag35M:http://www.donquijote.org/culture/spain/history/images/spanish_flag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7840" y="0"/>
            <a:ext cx="128592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2.gstatic.com/images?q=tbn:7pWuBkV5Ky0vxM:http://www2.ohchr.org/english/bodies/images/Flags/pr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0"/>
            <a:ext cx="12002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http://t1.gstatic.com/images?q=tbn:M6RVlmU1f5J9lM:http://www.appliedlanguage.com/flags_of_the_world/large_flag_of_brazi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6010200"/>
            <a:ext cx="1200240" cy="8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3.gstatic.com/images?q=tbn:OznrQ3RZGli_eM:http://www.mpressrecords.com/emailimages/Japan%2520fla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98176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http://t1.gstatic.com/images?q=tbn:01GVy0qR8Bj9EM:http://tizona.files.wordpress.com/2008/01/australian-flag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14920" y="6005520"/>
            <a:ext cx="1282680" cy="8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http://t3.gstatic.com/images?q=tbn:jfL3BNwL7bpKRM:http://www.travelblog.org/World/flags/ag-lgflag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215040" y="5977080"/>
            <a:ext cx="132732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http://t3.gstatic.com/images?q=tbn:xeGTqiJ6HUdodM:http://aworldofrecipes.net/countries/italy/italiansausagelasagna/italian-flag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34400" y="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http://t2.gstatic.com/images?q=tbn:G0pGRidOZB8fXM:http://www.tofocus.info/images/flags/argentina-flag.gif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86800" y="5983200"/>
            <a:ext cx="1357200" cy="874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8"/>
          <p:cNvSpPr/>
          <p:nvPr/>
        </p:nvSpPr>
        <p:spPr>
          <a:xfrm>
            <a:off x="285840" y="13572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En mi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opinió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 Callout 20"/>
          <p:cNvSpPr/>
          <p:nvPr/>
        </p:nvSpPr>
        <p:spPr>
          <a:xfrm>
            <a:off x="0" y="2143080"/>
            <a:ext cx="1857240" cy="1285920"/>
          </a:xfrm>
          <a:prstGeom prst="cloudCallout">
            <a:avLst>
              <a:gd name="adj1" fmla="val 72074"/>
              <a:gd name="adj2" fmla="val -52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214200" y="242892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A mi parece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214200" y="350028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Piens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1785960" y="857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0" y="53006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la República de C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1835280" y="5589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3419640" y="558972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Jap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716360" y="5589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66600" y="558972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7667640" y="5589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3143160" y="857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Alem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857840" y="857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6372360" y="857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8028000" y="857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Kristen ITC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2714760" y="45007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...va a ganar el pa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7143840" y="14288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Sí,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1512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</a:rPr>
              <a:t>No, no estoy de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t0.gstatic.com/images?q=tbn:hfEMEH7vPEzKQM:http://blogs.houstonpress.com/hairballs/world-cup-trophy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929120" y="1500120"/>
            <a:ext cx="17478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"/>
          <p:cNvPicPr/>
          <p:nvPr/>
        </p:nvPicPr>
        <p:blipFill>
          <a:blip r:embed="rId27"/>
          <a:stretch/>
        </p:blipFill>
        <p:spPr>
          <a:xfrm>
            <a:off x="179280" y="5954760"/>
            <a:ext cx="1352520" cy="903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https://encrypted-tbn1.gstatic.com/images?q=tbn:ANd9GcST04gNuvUXt2TtgRDmkInUZ-9USERfnqYal-vJH9K8p4OjSCI9KN_g-Xo"/>
          <p:cNvPicPr/>
          <p:nvPr/>
        </p:nvPicPr>
        <p:blipFill>
          <a:blip r:embed="rId28"/>
          <a:stretch/>
        </p:blipFill>
        <p:spPr>
          <a:xfrm>
            <a:off x="2340000" y="1557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9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0:05Z</dcterms:created>
  <dc:creator>sghani</dc:creator>
  <dc:description/>
  <dc:language>en-US</dc:language>
  <cp:lastModifiedBy>Clare Seccombe</cp:lastModifiedBy>
  <dcterms:modified xsi:type="dcterms:W3CDTF">2014-05-30T12:05:19Z</dcterms:modified>
  <cp:revision>15</cp:revision>
  <dc:subject/>
  <dc:title>Slide 1</dc:title>
</cp:coreProperties>
</file>